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598-AA5F-4C0E-B3F4-687691A8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513-8FEF-43D6-A737-8224E43C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D011C-27DF-48F6-8578-FF466F4E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721EB-4102-464E-AA17-EB4D24D0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408E7-66B2-4AD9-BEDC-AFFECE36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A9995-3295-4D98-BDAA-7763C974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8396D-F457-41EA-BE12-5F524B99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A1A6C-054D-45D4-88C7-BE82E47F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B092D-96C0-4460-B9FA-4635B21B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C8287-1147-4EF4-8038-A93FEAE1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901CF-C572-403B-A791-028156CE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4F93E-7F80-46D9-9FCC-B0BB3FEE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651-516B-424A-B27A-2292DD37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0615F-A574-4302-9B1C-B38542CE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37D74-97D9-4C80-A729-FBCF0FD6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83BB4-25C8-46AA-AB82-76AE1229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F56BB-1962-44B0-B0E7-438D4FA8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A05D8-0976-4A12-8461-363C6338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28C67-6231-41F0-93BC-FFECD4DA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3E563-B853-4C14-BE04-F2399BC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83448-3812-4335-A257-88E23EE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111EA-F39D-4E54-AF19-56CD2C28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78F14-A90B-4D1F-B675-20F8A420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5B6-6D04-4A51-BBA2-963B3E18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C57A6-DC0F-4413-A9E0-8BE0B46B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EA86-06E4-430F-8B6C-461F9BCC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8C3D-6D0E-444C-96B1-1A65809C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614C-ECE2-48A6-8ED9-1724EDFB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CADB-70A0-4762-B2A0-1BC0F26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4D30-F9E1-4F42-A631-2352FA58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B3FF-794D-4D00-8C73-083E76B6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0510-5A22-46E1-94FE-A8E7A99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473-51E4-4FB7-80CA-A50529B9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8D52-5C9D-4156-91F4-56BEBBF1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5AA1-31BA-4C3C-8304-336C95B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456B-4EED-4257-9134-32748977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BFDB-6D91-4498-8F37-FC26640A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C188-8BCA-41B2-8056-124A3ADF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F145-0C33-47FB-A488-38B5DD57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7512-4325-478C-8240-EA9AC32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0674-0B71-49CC-8FE2-76352B03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26E1-7B13-462D-A700-8DE60756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A1DF-9798-44A2-A6E9-8D5FC10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A0E-3FCC-4C13-BE4D-9D622266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F75C-027F-4F3B-92E4-C30451F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F06A-A7C3-4707-8AAD-34AF40F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B1B7-CEB0-4CA7-B021-7E1CBCA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3961-CCEF-47C2-A5E2-5AD3D84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4ED1-67B9-4B73-AF73-A478AF45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58CD-C499-4B38-915E-665DF416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8115-1C8A-4367-919E-3AF2FF89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DE97F-E74D-40D8-9F68-410D9B89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239F-30ED-4C3A-9AC6-5DFC66A1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C4AB2-08EF-4C16-BDB8-B9D22AB0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0F7-5C1C-4A9A-9CB8-8225541B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4898-870D-42DF-8E4C-9459B06A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76F5-2A75-4D1F-8763-E83AA37A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AD89-3286-4619-854A-641CE694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D88C-B0EA-4C3F-BE49-96BA4269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D9D9-7B44-4DF3-BF97-2826A422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786A-88D2-4FA4-82E6-8638AA1D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BEC7-35BC-4855-9E03-6D10978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4CE1-B8ED-49A1-AF5C-936B285D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2251-1F68-41CD-8ABE-CEBB8A0E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B5568-5DBC-4F13-8189-CF393318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542-D846-408C-92E0-97203C94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82E1-138F-4135-B94A-2E27D253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76E1E-417C-484D-9BBF-FDE5AA66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20FD-70A6-4862-BD3E-A75B1D8A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621AE-9E2A-4C64-B1EF-660576A9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A343-F7B8-45E7-9E2E-AA295704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43D3-8ACC-4DFE-8BC2-10DAF45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3F2D6-0B46-491D-9F0C-D2274BB0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E8A5-6406-4757-A692-75CADD1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35FF-038B-4D68-9046-AB0CB5DD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C96D-1FE9-4DB2-B3C1-959FF711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473-942C-42FD-AA8B-882DEFE4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BA9D-063B-40D8-A0F7-26301515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86F7-C9C5-4DC3-AE3F-3AD5BD8C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A7E1-A2AC-4009-9849-AB74B08E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701C-0F92-43E6-9FCC-156BFAE2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8275A-B31A-48F2-A40D-7504A1D6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8B456-F7D0-4677-B79D-F27256F7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03647-7F91-4BA6-984D-D62D83D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243F-59F9-4639-BC53-C402D707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11354-10DB-4BBE-A755-48FE6C1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9D2E3-065E-4424-8731-41F0E100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949-883C-4B8A-8478-8B41957C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AFA0-33BA-4602-9BF8-165D41A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1F481-71F6-4565-A30C-23847B12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41801-E8BD-4DA3-B21D-A5513A4E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CDCA0-4552-4901-B9C9-D8736363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FF0D6-ED6C-479E-9FE1-76BCD01D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4477-F983-497F-AF98-5554F56D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85F34-74C6-40B9-8C6A-F9982704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97E63-D85B-445B-9848-1B51E6EC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E451-ACD1-4090-84C2-69FAFE0F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036DC-F2F7-4FF9-9358-42C1D9A3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B47-F5DD-442D-8F67-DAE44B95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68068-B3CC-45E4-8224-EE7A8CA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0085C-9E5A-4E14-A383-7AF891A5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ABD9D-7A24-4D5D-BD6A-0F6E3A44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82D3-5FE8-424A-BB84-974CF155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7466A-167C-4284-B0F4-39063FA4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78021-EFBD-402F-A558-7CDB284B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CB62D-26D6-4E57-A16C-5C08DA18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A9EB4-1B44-4107-99E6-126B57CA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ED43E-B7C5-4271-834D-5DE7FA80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14245-C62F-428D-A9DA-22EAB4C5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30B-B798-41D3-959B-8DAC50A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1E6C6-3288-4365-BAC6-1E9EF79F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327BE-67A3-431A-A7AE-3FA3284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A56A-05FB-463C-9239-28F8ABF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0FB99-BEBD-47F9-8130-BF101C8A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DC89D-979B-4E59-A5CE-136FD857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1F670-45C7-43A2-838D-C453B511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71B5A-72CF-440B-A548-99048F4E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02CFB-62B7-40CC-B419-1AD3269E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3007E-D893-4F12-A0AC-23B7E6C1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C64FF-C194-4F11-B788-86434CC2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A045-FBDE-45A1-909F-2A2E31B91414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9F73-345A-428E-BD7D-6555B3C6BF1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C772-7608-49C9-97DC-9E9F541AFC12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0F7F-E104-4254-9FD4-3DF66FA9684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755-C308-4803-B323-09862B961A7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76E5-F890-4D1B-8E33-7BB7D6C4D10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C3F7-36AF-4560-9C1C-2FBCEC7ABAA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152-1160-4BF4-BC78-CF4B5A5BECB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riangle rectangle 7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ADD7-3DE3-4493-B764-CED8408AB6A3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1421-DAC1-416D-99AB-B5F990EB514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8395-A63A-40F4-BF3D-C917611AF78C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47ED-8E01-43BE-B69E-654F3F126CB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B5C4-979F-4910-98C7-452ACA33CD4F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436A-D43A-45E3-AAAD-8C638D92B4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F55-59C5-4535-B935-F611C2AE4233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14DE-B49A-45D7-AD4B-3E6AA9836EC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F9F5-15AD-473E-A27C-C3CEFA6442E9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6F61-04FC-46B8-9C63-919BC0A9459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A8AD-5A67-40B8-89B0-B4DEED35E47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B3BE-3BCE-4B8A-95CB-730F2EED3D8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703960" y="191628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62c4"/>
                </a:solidFill>
                <a:latin typeface="Arial"/>
              </a:rPr>
              <a:t>PRESENTATION N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11960" y="3068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rme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0:13:44Z</dcterms:created>
  <dc:creator>Ric</dc:creator>
  <dc:description/>
  <dc:language>en-US</dc:language>
  <cp:lastModifiedBy>Mediac</cp:lastModifiedBy>
  <dcterms:modified xsi:type="dcterms:W3CDTF">2006-07-24T00:05:17Z</dcterms:modified>
  <cp:revision>9</cp:revision>
  <dc:subject/>
  <dc:title>PRESENTATION NAME</dc:title>
</cp:coreProperties>
</file>