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484-FB4C-44CA-8321-7F60906C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A81-42B6-4C82-A18D-0147F25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01460-5938-485E-9BC3-9259D0D2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AD8E0-4CDD-4B65-81FE-D12BD68D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94BD7-DB6F-42E7-8501-5E1F4F38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9595E-64AD-4751-8513-6EEF3C10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3D33D-B430-4D68-AD37-37D63C0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54C68-8534-41E8-B206-319AE47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6FF08-7378-48ED-8DA4-031F0D19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91699-4A80-4400-B00F-7A8AF36B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90CCA-D9DA-4EF6-8C0B-D89CE929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0B2CC-2336-49F0-BFDC-1E545C0C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83B-D3B1-4F73-85B1-DF7C8E49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D1809-907F-47D1-8D48-4130BF0E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C4C2E-77FF-4038-BDE6-B0865627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DCE30-4AF7-49E9-B997-8082AAB0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1E8FC-6EFA-482F-A902-DC2AA9B8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9E9F0-90B8-44C5-8861-B5561570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F5FBA-481F-464A-BC45-CEC9973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05F68-FC30-46BC-91BC-4E507A3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C3AE3-83D1-425A-9A0F-29E9FBC5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69294-2122-4C37-9F6D-CDE6F666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DA7F8-8842-404E-A24B-4C0888AE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681-F67C-4C2D-BECE-51CCBAF1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FDBBD-3397-4E2A-92EC-726531FD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567C-58FE-4254-A499-1CDEB785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271E-8B83-467D-AD05-F91775A1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B694-C582-476D-BED3-BBED2D9D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30C2-74F2-4178-BA82-79397DBF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2A3A-A54F-4227-BC69-D274743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C429-E8E7-4D7D-9520-F9EFD31F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98F7-818E-4219-AC36-4C7CD3B0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984-49D2-40D5-96BD-D6BAE5AE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5D88-F59D-427F-B449-6B45ACCA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CAB5-EC75-4282-972E-AE5F461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6BE2-EB09-4C21-AC7F-8B6FC35F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1FDB-0E03-4D3D-8B23-E2896245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4DAA-6A01-4870-B701-D39D6F71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7F0E-6CEE-4DCC-BD5C-88155027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6360-6946-4098-A146-80367086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A576-8B8F-4BC6-80BE-8CC8EF41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FAE4-FB25-4E78-B2CD-FE65549A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C582-6BEC-4BFF-AAFA-D846B28D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4FF-22B2-4219-AD27-86A22863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E9BC-6333-4818-A8E6-2EE5075A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A876-BCDA-41D5-BB7E-64C5D67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ACF48-EFD9-4CD9-AC76-0D65228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A847-D291-4EDC-BF7B-707267F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42A6-F3CD-44E8-AB16-AC487833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3D7A-36EB-415D-92FB-3DE837ED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5387-64F4-44F9-BDD6-36267D45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644F-D421-489D-8F0D-EFAD8E51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23FDC-F279-4901-9671-F81DB3F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4768-E6A5-45E7-B80B-9E6DD88B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D5A-F444-4E30-946C-458B9E4F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10A09-CE23-42ED-A128-DB8BF292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98B7-2B34-4023-8AFA-9E57C3A2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80306-1DA2-405C-9AC4-036D0622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2F4F-3420-4895-9A3C-61DD4AC0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723B-5EB7-4725-95B5-EB16B0F7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7DAA-6FD0-49BF-B8A3-2EDF2CD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2AE4-6F08-4C67-8B09-B08F7B81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20A7-CB44-4A41-BCE8-AA031191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12EE-E63A-49FC-98DA-2C48E35E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5CA7C-E0CA-4180-A589-C33A10B6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9E9-DF4E-42A3-A800-9584DDEA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80F9D-D348-4C15-841A-7EB36E7A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4A09D-1111-4CAE-B948-C68AADCB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9FDD8-0A72-4501-9475-C2B16EE4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2D9D8-5445-432F-8DC7-C73D385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92AE-C11A-4307-9FEE-DD0DC69D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D03F-08B8-4EB7-958A-1EA250F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2A87-8D32-4A90-A0FA-C789A1C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EAE8-DB30-468A-BD56-C0B08DE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D2844-BD91-4F6C-8FE7-21BF459F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98FB9-9271-4678-A3F2-DF67C613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87C-6FCC-4FE5-8F00-D70F1F0D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CD8FF-7794-46D8-99D1-B0905DBF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19FFD-3169-4731-AC85-FC83FA09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04547-8418-4B08-BBE4-510E139F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68AE0-4148-4829-A930-65EE7197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70F45-0849-4DEB-B54B-1EC6E8B7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5EBB-85B6-4975-B6E6-192DCB4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9962-1091-40B4-89A6-4FD86A97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34EAF-C1F7-47B7-A41B-3C8A55C9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9F316-728A-4A88-A17C-E53CBDA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50D68-1AC2-4F91-B608-A26F1CCB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441-A9A8-47BF-A0D8-4533CB4D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F2F53-ED18-4767-86DA-86F123D5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7A179-1F6A-48F1-B893-04D557B8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DFD0-7145-410C-8A1F-878DA914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FCEAB-4550-411A-9D90-4D6001A8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63453-B953-4278-8386-F0487EA7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034DE-D5FB-4ACA-9726-14D2BF55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2FAE1-9B38-4F44-A1EE-B238FA65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62CD2-DF26-4D96-AF17-FF1A0216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87C5-E2EC-47C6-964D-611B2427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192E8-BCF8-4760-9DAE-7998B8B7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E1E-B3A1-4615-A7B8-7538F07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C3749-2A38-4E7A-BA56-EAADA5C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4D464-1D3E-47FB-BD39-4A02F251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DCA09-AA1D-4ADB-8282-7099FAAC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2565-769F-4105-B5F6-2CC78ADC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392D4-0513-4B20-8290-A967C50E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30AAA-AC77-49F8-BC1A-7A634F24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2EFEF-4DFA-4395-9E33-4E5CD754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4E5E0-BAF7-406B-95A8-DC02776F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3B498-7615-410C-9A05-DCCA3E5F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42C26-1672-499D-8009-432533F4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B20-F1D0-4A9E-BCB7-F9BAB99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DF0F3-D6BD-4F31-95EC-9A68CEC0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A983-732B-4FCB-A5BB-F3B2C39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DA7C-0EAB-4142-BFB5-CDF57169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4C86D-71CB-4A89-899E-0A9ACC9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5364C-F325-49E3-A062-F92B5072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2CEC0-A255-48B3-9F97-29785DE7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70BA9-6E1E-4A67-84F1-4EC1690E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7DA27-8266-4D27-8BCF-9269C799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7DE58-0E85-45A6-A86F-09B40B41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34B95-94B2-4F1B-A1A2-8C4F54F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CD29-6D94-4C3D-8548-42D1842049DC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ABD-3276-4AE7-AA23-858BC1AF5C6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0EB-E9EB-4F9C-BF3E-C01984FDACA1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CD57-92DE-457A-8DEC-CBDA04A373B5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F18-8661-4ADC-B522-01E452709A1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89B8-6DFE-4D22-81BD-65CD7CA27ED5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3317-B205-413D-BD75-451AD1F46B21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DFEA-B7AD-4A90-88C2-A1228165B80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riangle rectangle 7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4F1F-F6FA-43DE-BE05-63F3DA23EF88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DD74-2E97-4ECB-AB34-6869BD7A0B6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0063-4CCE-4930-B72C-B7F5E269E61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F912-6E9B-4A46-A543-F9372AEEC3E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4B4C-388D-4B23-A8CF-F45B7C71B425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10A8-69DD-433F-A79B-AF7624AD5B8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0041-694E-4DBC-979D-3ECF6BB67A71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B6B9-02FE-4D1B-B148-7F8F72F4903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2674-6DBC-40AD-ADB1-7273BFA54094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CB44-4345-4B2B-90A1-B8F23719E0A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D1E8-4496-4731-837F-3CB2B92E395C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5A30-260A-4893-93A0-2010EC1CD000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703960" y="191628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PRESENTATION N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11960" y="306864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07f09"/>
                </a:solidFill>
                <a:latin typeface="Arial"/>
              </a:rPr>
              <a:t>Company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f07f09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rme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entury Gothic"/>
              </a:rPr>
              <a:t>Cont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86160" y="47628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0:13:44Z</dcterms:created>
  <dc:creator>Ric</dc:creator>
  <dc:description/>
  <dc:language>en-US</dc:language>
  <cp:lastModifiedBy>Mediac</cp:lastModifiedBy>
  <dcterms:modified xsi:type="dcterms:W3CDTF">2006-07-24T00:05:00Z</dcterms:modified>
  <cp:revision>6</cp:revision>
  <dc:subject/>
  <dc:title>PRESENTATION NAME</dc:title>
</cp:coreProperties>
</file>