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3E3-FC49-40DE-A6FE-50354860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FEA-C4E7-4AD6-83D6-D9C3B3B3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D471A-27F3-4ADD-AED2-02936D0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9A1A0-5CCB-4670-8695-F3720237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CDEBA-9FE1-402F-8904-1C2B397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CF46D-835D-4499-9644-42A0F4A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8152C-AED9-431E-A634-E4B6246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5A4C-C1C5-4FCE-8210-EF21784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7202B-566F-4AB8-AD5A-189915C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37B6A-0B95-4AE7-A327-F82626A9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6F57-C4FC-4E28-B668-2C5015F3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70844-3D31-499A-B405-348E5014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25A-8A08-4FAA-A738-81E3C4D7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8564-6E94-4BA8-9E1D-46392D2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D12EE-1501-495A-B35C-DB61AB5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0ADC6-DC5C-4BF7-AC48-15ABDBD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BC910-1F8F-4C33-8330-5899FE3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373E7-0010-461D-B101-D812748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0B92A-4673-4EEA-BA8B-5567B53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2CAD9-4E85-4E32-8EB5-BDBD9D5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912EC-06B7-4E00-893B-1B0800D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9D181-A371-4B4E-924B-3AFA0DA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08A2-D9C4-4CBE-9F17-F57922A2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124-9065-4C80-BDD1-70C30922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B37D7-EE57-4E64-BF38-6BF036EB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9C8D-65A8-473F-AF0E-23F57697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AB2F-9555-4336-9FA8-40CD505C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0ED-4860-4806-B26F-5E1E26B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48E8-6965-4FF4-97F4-9D86C5E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EC7C-F679-4C86-B394-8C0FD1B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CCB1-5434-48DC-A5FE-2CAC4F2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56A2-DCD0-4C5B-8BBC-FD1C2A6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5E0-B992-47EF-A619-93D2116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C54F-5E7E-41D3-BDB7-973DB35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EA5-E572-46CB-8852-B3F3D79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E767-DCF7-4873-876D-B487E31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4291-CB31-4445-BF61-255585D9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08A7-1CAE-4A57-BFC4-1EAF30E2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CFE9-16F9-4A4F-9186-1FF5C190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23E2-C632-4546-8B2A-4B92168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AD54-6E18-4D91-9B6B-6613F50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AB43-B123-4441-8C59-DA64197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D0D9-0AC5-405D-A0A0-329C657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67B-3A62-447A-9AAE-979673AA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AE00-B07B-42CC-A1CC-865DC80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1D64-B8BC-4D94-B03C-2143616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AEC6-84DC-4B6B-9BAF-A39F374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D056-7309-4273-B5C3-5990335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F6C9-515B-4964-B5F6-A0D3B1C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153B-99BB-485E-8395-940ECF0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CC53-8DD7-4493-8C15-B07F7E98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09A8-C61A-49AB-B859-9248764A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54D7-0F0E-46AF-A255-F89FEB5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0D8F-67C5-451D-9709-CAF73CDD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56B-4334-47FC-A0D4-D9029A9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76CC-564A-4D08-8748-9EA4D984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4DE0-0F2A-429D-92D8-0880BB7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4D5C-7064-472D-AE09-FA45968D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1FC9-55B5-415D-B36F-D036209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E073-B244-41EA-98AE-C654A63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1D96-553D-4417-8AE7-B144B2C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54CD-9F8D-42FA-8192-783EB715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BDCB-64BC-4423-920B-DDEB71E2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29A8-C39E-45D5-A452-879BE633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F4FCE-2967-430E-82B2-F261381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787-F7BA-475F-9B02-196AF32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EE7F2-4298-4C77-B36F-A00C70B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E769-C730-4F49-94D7-495B5F3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3493-44CC-4CEF-A0A3-ED6FDDB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DBD6-BD6F-4A99-A59E-9842612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EE6B-117F-4341-9DA7-64E3FCA8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1985-C99C-4D79-A085-624112A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4F6C-49B9-4F69-AA59-4A860AA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49FD2-43AA-4BAA-B555-8C0FD14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1A21-96CD-407A-8CF1-768FAED4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56C9-0487-48E7-BB5B-76C3F2C6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B44-72D1-42CB-AEFF-671C4385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1294-9C34-4B15-BDEE-6C9F96C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1F8F-A54F-49B1-B1A4-015375F7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2AC3-9968-4E65-877B-2030503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9AED-19FB-4784-BCCB-FF49ACB7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A9AF-EF35-4A19-A066-6BB77AAB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C3A9-D8FD-4D27-AB6F-96C72123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1DE0-A494-446F-BC72-7432ECC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BD16-3519-4647-BA3D-D5022CCF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09CD-58EA-48DD-AE4A-053CDBA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57DA-D82A-4D41-AB1B-8135C97A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CE6-EF2B-41E6-B3EB-75D929F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F040F-45DB-4127-B480-4F0A5E3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A523-2719-4125-8630-91759EAF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43A8-2965-4671-9B79-6101A8C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8AEC5-9928-48D5-BCD0-81C52C5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992D-99AA-4FAB-90D8-7240954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9DAD-A8BD-4E4A-B391-AEBC7EA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1C1D-F9C7-4876-AEB0-717258CE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7EC44-E4B5-4AB1-B58B-9706A60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940F9-8548-4D75-82F0-E87A890D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A0AE-BA32-4FE4-9051-A0CBC1E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631-C30F-4B62-915C-E453100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F6A6-018D-4E1F-BC77-D689870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6BAC-0D00-4145-88AF-BE6F930E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9B4D-B12C-46ED-ACAE-5D689A7A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D210-074E-4144-9487-2BE45CF1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3D12-E718-4956-BABA-6EC18B7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5CB2-1D1A-432D-8C45-3E8094A1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CAC2-EF29-4DD3-A888-30E3A14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46EE-0CC0-41AD-91F6-BDE11FA3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CCAC-DDEF-4D73-ACB7-E88E30A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A9650-2C5E-4798-876E-4A148DC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871-B0D2-4B85-8A7A-2B7F6E6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0770-135E-4A66-A8C4-63A7DB3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4846-C9F0-4210-8709-32C4DA6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2965-C4D4-43D1-96B7-12DC45E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E7635-80F7-4103-BFB1-89F5E7D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A2BEC-59B3-4432-B5C3-084E6CE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0EC34-4548-46FD-AA36-1A950E20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2E6F2-262A-47E4-99AB-BCE71F8B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024F7-FC24-478E-BF56-4912FAA9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F7E71-9A84-4337-8CB4-A92AE69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ACB4-D5E9-4DA4-93C1-675731BC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31C-A9A6-48B0-9A8A-DC63DABDDC24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2B8-BA89-4A26-92DB-47DE3DAABFD3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366-371E-4EFA-87D6-93F9AF37FC0A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8DB-F6AF-4EB3-8279-95C298E57596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1e1e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1e1e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F12-8A7C-40DE-BF1A-865477B5E9ED}" type="datetime2">
              <a:rPr b="0" lang="en-US" sz="1200" spc="-1" strike="noStrike">
                <a:solidFill>
                  <a:srgbClr val="c7d7d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188-76D2-44FF-AC8B-F3780157ABBC}" type="slidenum">
              <a:rPr b="0" lang="en-US" sz="1200" spc="-1" strike="noStrike">
                <a:solidFill>
                  <a:srgbClr val="c7d7d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D7B-75C3-432B-AF1E-BC323369F42B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BD3-171E-4C3B-980A-EDD4D4CB9F56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1e1e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1e1e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DED-9493-4712-BEA2-7C9CB416366C}" type="datetime2">
              <a:rPr b="0" lang="en-US" sz="1200" spc="-1" strike="noStrike">
                <a:solidFill>
                  <a:srgbClr val="c7d7d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F11-2249-43F5-89CB-2A3AA601F638}" type="slidenum">
              <a:rPr b="0" lang="en-US" sz="1200" spc="-1" strike="noStrike">
                <a:solidFill>
                  <a:srgbClr val="c7d7d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357-2506-4D98-B9ED-3E92D1D65B88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CA41-E4A1-451A-90BE-4D4CEB06D9AF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470-8768-4B0B-8122-B2699E006DEA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CA7-3C1D-40F1-8A5B-4D2C5C1972DF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1B68-6F8E-4D88-AFC3-CB5B88AD323D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800-2046-45C4-84EA-AE7A6DEEF693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3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3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F78-782F-4202-A34F-56443C5BC3F3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C78-F996-4FE0-A7AC-8BB4A662812B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1542e">
                  <a:alpha val="45098"/>
                </a:srgbClr>
              </a:gs>
              <a:gs pos="100000">
                <a:srgbClr val="afb9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5" name="Forme 11"/>
            <p:cNvGrpSpPr/>
            <p:nvPr/>
          </p:nvGrpSpPr>
          <p:grpSpPr>
            <a:xfrm>
              <a:off x="-19080" y="203040"/>
              <a:ext cx="9163080" cy="648000"/>
              <a:chOff x="-19080" y="203040"/>
              <a:chExt cx="9163080" cy="648000"/>
            </a:xfrm>
          </p:grpSpPr>
          <p:pic>
            <p:nvPicPr>
              <p:cNvPr id="4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1800" y="203040"/>
                <a:ext cx="91458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Forme 12"/>
            <p:cNvGrpSpPr/>
            <p:nvPr/>
          </p:nvGrpSpPr>
          <p:grpSpPr>
            <a:xfrm>
              <a:off x="-12960" y="248040"/>
              <a:ext cx="9174960" cy="561600"/>
              <a:chOff x="-12960" y="248040"/>
              <a:chExt cx="9174960" cy="5616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48040"/>
                <a:ext cx="91594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260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F02-D491-469C-B995-A36169E07226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374F-A50B-43C6-8B3E-D2B663022E96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357200" y="2785680"/>
            <a:ext cx="3114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ffffff"/>
                </a:solidFill>
                <a:latin typeface="Constantia"/>
              </a:rPr>
              <a:t>Company Name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"/>
          <p:cNvSpPr/>
          <p:nvPr/>
        </p:nvSpPr>
        <p:spPr>
          <a:xfrm>
            <a:off x="1477080" y="37465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7f8977"/>
                </a:solidFill>
                <a:latin typeface="Arial"/>
              </a:rPr>
              <a:t>Presentation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rme 3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592280" y="2139840"/>
          <a:ext cx="5981760" cy="395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2280" y="2139840"/>
                    <a:ext cx="598176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8:10:29Z</dcterms:created>
  <dc:creator>Ric</dc:creator>
  <dc:description/>
  <dc:language>en-US</dc:language>
  <cp:lastModifiedBy>Mediac</cp:lastModifiedBy>
  <dcterms:modified xsi:type="dcterms:W3CDTF">2006-07-27T20:33:47Z</dcterms:modified>
  <cp:revision>7</cp:revision>
  <dc:subject/>
  <dc:title>Presentation Name</dc:title>
</cp:coreProperties>
</file>