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a3"/>
                </a:solidFill>
                <a:latin typeface="Corbel"/>
              </a:rPr>
              <a:t>Click to move the slide</a:t>
            </a: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8D67-D150-49B0-A08F-AE0E972B24CA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orm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CAB4-E898-4872-A7A9-6E054A81FFCD}" type="slidenum">
              <a:rPr b="0" lang="fr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7F9-523D-4F72-A165-2CDA8339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99B-CE04-4C1B-B926-1CD2E85A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2BAA2-21C0-42C5-9FF4-E321B12D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CE310-C86A-4AD5-8199-7738572C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3BC21-651A-4A45-9D9D-1C2E01F8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5863E-C1DB-44F9-B059-6062639D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B5D29-B666-41D0-820C-6618F560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EAC6D-C778-4DE3-B8C8-59FE1BDB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EF1B4-F953-4708-A9F7-8F69E132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0D4C4-75B9-4AAB-9775-BE6824E5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510C9-EC32-467A-96ED-688BBD85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F2190-5B4B-42E3-B86C-C5DDE509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2A1-E8C4-44E0-8C81-040AB9A6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089F2-E570-4D01-A22F-0824B2AD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199D0-C6EB-454B-872F-A6072D44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E023B-9A43-4FC8-853F-39879D42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54D1E-D70C-4006-87F0-F85D727F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8F022-A2AF-4579-AE78-5A6A1A04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F1B01-AC66-4315-9D6F-5D041E5E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B2872-0B82-4981-B3CB-3F6E3624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6370A-4089-44D4-A8CF-33DD22B4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83145-C548-4EF7-A9D9-9D3A8732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5BE6B-623C-4CBF-9D77-53C43F4F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1DE8-D559-4A47-8540-AD9C6357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747A9-FCAA-48D3-ADDD-37359C1F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6EF0-F5CC-41EA-B692-D7EA99B3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0254-6E4C-4E4C-B652-D690F1C3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D20F-314C-4302-A5A0-D3041CCA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86F1-6A9D-41C6-B00C-3E1D7DAB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9923-5A2D-4CD8-89FF-47477857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4825-5F40-4A39-8BDF-FF6E7D67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385A-2ACE-482B-B12A-ADD9DE26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B959-9667-44E8-A238-03D172BE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0598-DA9D-49A1-BE33-40AC6222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3F2D-5316-4256-828D-395F494A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A3A2-AFD9-4422-87CE-95EE8927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7B5C-06C4-4E02-B3D6-8C24A950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8E0B-0265-4C84-810D-4F03AC74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4CA70-99D5-4699-AB6E-CA3550A7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3EAC7-4F95-4314-BBBF-06D27521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9D164-B731-4DEC-8F45-8166D013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4A601-DE09-4B46-A9F5-9D7FCB80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B4A49-BA56-4D60-B41B-BBC3F603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120-7B51-4F35-9A29-1B86FFA0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A293D-8250-48FB-A8DB-92566ADB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C6DC0-5FF4-4E72-9487-D565A4E6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49B24-2FB1-432C-9C20-D30DAF1D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2160B-2932-4AB1-8591-925C99E1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E4BB3-C8BD-4A3C-8037-1A288DCD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7438A-59CD-4787-82A3-F1E38ADF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25EC7-D0A6-4F0C-BF7A-30E80B2F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5389B-070E-4476-BC1C-15B790E8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BF6D3-C87F-4A13-9AC6-A2FE8ACA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A643E-8446-413A-93D9-72A3B21E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55D0-A44C-4C26-98DF-89BFC0D0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3B82D-78A1-46DE-9157-83102A92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F8723-348E-452F-BE47-F975E6A1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EA89F-3B62-419F-8F60-10EF5EC9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B987B-997A-4638-AE7E-67F4FB4D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C9144-6BBA-4212-BEA3-C3C9CEF5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12779-B7E8-45E4-973B-906F8D31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FFCA8-D619-4AC7-8E33-6A32F422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A1FE1-923E-400B-9275-E45C4DC8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97DF6-E406-41C0-B80D-E248E12B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6CEEA-9B60-46EB-8702-451C8ABC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930-DE9A-4434-9A50-00311268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B12DC-265C-497D-A615-091E9CAF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7E345-E1BB-44ED-B5E4-A5ED4654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82A7A-5B87-4C6E-B2AC-81278744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7C444-7CAB-4998-9AA8-496A8F59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370BE-5443-4BA3-9506-C11F6FB1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22FD5-F6FD-4837-9737-590A0342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CE8F4-709B-467C-BFB7-A63751B2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FC3BB-3E6C-4843-B2F2-BF42BC14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0DB8F-3E0D-4450-BD88-2F39C894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75C6C-5F64-423C-B03D-98291F32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A53-9BB4-4CE1-91D7-474B0386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2897A-C764-40C8-8ED8-0EBC6190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167E9-76AB-4249-B6A2-FF06638B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0D163-9AD7-4092-BAB2-79338CB5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543BE-82B5-4B84-86F0-4B5EA716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D6F49-E151-447E-9763-33153F00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75401-6E46-426D-B9DF-99831FF7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AA379-54A3-4553-8A6A-54C53994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B30B3-3B1D-480F-B216-B20A4175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F4D8A-8C46-4930-BC66-76D683FB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5F199-0959-4F98-A826-BD42B0EC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226-7150-4231-8D1E-27EDF3B1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23A73-2BD3-4D86-8144-7B364CD2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423B1-D795-4E61-A006-1737D931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8C373-097B-46BB-AC37-40835D14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13FA5-10A2-4270-A905-0FE3FD39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B9B44-F06C-4C0E-9DD4-796B5B9B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045C0-D43D-4F60-974A-E8E75061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D1D83-961A-4B36-8607-07D75E9D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C3F60-42D6-4D48-A3BB-D9861C11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F2ADF-5259-44D5-85A5-D7FC00F7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8B6F5-0830-4E62-A40F-A9F590D4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338-91B2-4A5E-8376-5E30644A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FBEED-8276-43E6-9505-9B64D25A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416DC-4733-46CA-BA50-47B7FE2E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25103-ACE8-4057-B39D-61AC727E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4BD0A-CD81-4E95-95A5-B93FD314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BD274-25F5-4656-B72A-ABC11CD0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AFBE7-868D-4DE0-A2BF-432E4932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CE222-4E2F-4063-9972-28E34C23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51653-6356-44B7-A3D3-F20866CC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FDD78-F93B-43EB-B70E-735A792F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ABE40-EDEA-4A70-8C0F-ACE8BD98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480-7B8A-4DE5-ACF3-C36D1F55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F4648-41C3-4A12-B61F-1D3CC8EB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B3499-F10B-44B5-85F6-2BF08F15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0B8A1-FAAC-4842-8022-6E38C3A4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05A62-EB63-4622-B358-1ED0AEFC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981D7-1A61-4BF6-97A5-8DB5CA52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F0178-06BE-4FE4-AD48-61117D88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1FED6-CB7E-4157-9825-9875E956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08FCA-4B9F-4244-8D90-5DEEF53C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A713A-7F09-4B58-BC10-63978325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38363-032C-4B19-97E8-FC4C87B5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rganigramme : Document 6"/>
          <p:cNvSpPr/>
          <p:nvPr/>
        </p:nvSpPr>
        <p:spPr>
          <a:xfrm rot="10800000">
            <a:off x="0" y="772920"/>
            <a:ext cx="9144000" cy="5932440"/>
          </a:xfrm>
          <a:prstGeom prst="flowChartDocument">
            <a:avLst/>
          </a:prstGeom>
          <a:gradFill rotWithShape="0">
            <a:gsLst>
              <a:gs pos="0">
                <a:srgbClr val="992700">
                  <a:alpha val="55294"/>
                </a:srgbClr>
              </a:gs>
              <a:gs pos="100000">
                <a:srgbClr val="e0a990">
                  <a:alpha val="0"/>
                </a:srgbClr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rganigramme : Document 7"/>
          <p:cNvSpPr/>
          <p:nvPr/>
        </p:nvSpPr>
        <p:spPr>
          <a:xfrm rot="10800000">
            <a:off x="0" y="990360"/>
            <a:ext cx="9144000" cy="4830480"/>
          </a:xfrm>
          <a:prstGeom prst="flowChartDocument">
            <a:avLst/>
          </a:prstGeom>
          <a:gradFill rotWithShape="0">
            <a:gsLst>
              <a:gs pos="0">
                <a:srgbClr val="992700">
                  <a:alpha val="30196"/>
                </a:srgbClr>
              </a:gs>
              <a:gs pos="100000">
                <a:srgbClr val="e9c4b4">
                  <a:alpha val="0"/>
                </a:srgbClr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a3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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51"/>
              </a:spcBef>
              <a:buClr>
                <a:srgbClr val="a5644e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51"/>
              </a:spcBef>
              <a:buClr>
                <a:srgbClr val="b58b80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51"/>
              </a:spcBef>
              <a:buClr>
                <a:srgbClr val="c3986d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51"/>
              </a:spcBef>
              <a:buClr>
                <a:srgbClr val="a19574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9af9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551F-CDDC-4450-BCBD-B2916BD217A8}" type="datetime2">
              <a:rPr b="0" lang="en-US" sz="1200" spc="-1" strike="noStrike">
                <a:solidFill>
                  <a:srgbClr val="b9af93"/>
                </a:solidFill>
                <a:latin typeface="Corbel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af9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0DFC-3783-4B12-89CD-5DF3D2E01249}" type="slidenum">
              <a:rPr b="0" lang="en-US" sz="1400" spc="-1" strike="noStrike">
                <a:solidFill>
                  <a:srgbClr val="b9af93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a3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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51"/>
              </a:spcBef>
              <a:buClr>
                <a:srgbClr val="a5644e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51"/>
              </a:spcBef>
              <a:buClr>
                <a:srgbClr val="b58b80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51"/>
              </a:spcBef>
              <a:buClr>
                <a:srgbClr val="c3986d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51"/>
              </a:spcBef>
              <a:buClr>
                <a:srgbClr val="a19574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9af9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38CA-3794-4DC9-802C-8D5BEECF7DC8}" type="datetime2">
              <a:rPr b="0" lang="en-US" sz="1200" spc="-1" strike="noStrike">
                <a:solidFill>
                  <a:srgbClr val="b9af93"/>
                </a:solidFill>
                <a:latin typeface="Corbel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af9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C77D-0B86-4765-812B-58D2EF402E70}" type="slidenum">
              <a:rPr b="0" lang="en-US" sz="1400" spc="-1" strike="noStrike">
                <a:solidFill>
                  <a:srgbClr val="b9af93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rganigramme : Document 6"/>
          <p:cNvSpPr/>
          <p:nvPr/>
        </p:nvSpPr>
        <p:spPr>
          <a:xfrm rot="10800000">
            <a:off x="0" y="772920"/>
            <a:ext cx="9144000" cy="5932440"/>
          </a:xfrm>
          <a:prstGeom prst="flowChartDocument">
            <a:avLst/>
          </a:prstGeom>
          <a:gradFill rotWithShape="0">
            <a:gsLst>
              <a:gs pos="0">
                <a:srgbClr val="992700">
                  <a:alpha val="55294"/>
                </a:srgbClr>
              </a:gs>
              <a:gs pos="100000">
                <a:srgbClr val="e0a990">
                  <a:alpha val="0"/>
                </a:srgbClr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rganigramme : Document 7"/>
          <p:cNvSpPr/>
          <p:nvPr/>
        </p:nvSpPr>
        <p:spPr>
          <a:xfrm rot="10800000">
            <a:off x="0" y="990360"/>
            <a:ext cx="9144000" cy="4830480"/>
          </a:xfrm>
          <a:prstGeom prst="flowChartDocument">
            <a:avLst/>
          </a:prstGeom>
          <a:gradFill rotWithShape="0">
            <a:gsLst>
              <a:gs pos="0">
                <a:srgbClr val="992700">
                  <a:alpha val="30196"/>
                </a:srgbClr>
              </a:gs>
              <a:gs pos="100000">
                <a:srgbClr val="e9c4b4">
                  <a:alpha val="0"/>
                </a:srgbClr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a3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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51"/>
              </a:spcBef>
              <a:buClr>
                <a:srgbClr val="a5644e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51"/>
              </a:spcBef>
              <a:buClr>
                <a:srgbClr val="b58b80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51"/>
              </a:spcBef>
              <a:buClr>
                <a:srgbClr val="c3986d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51"/>
              </a:spcBef>
              <a:buClr>
                <a:srgbClr val="a19574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Organigramme : Document 10"/>
          <p:cNvSpPr/>
          <p:nvPr/>
        </p:nvSpPr>
        <p:spPr>
          <a:xfrm rot="10800000">
            <a:off x="0" y="1206000"/>
            <a:ext cx="9144000" cy="3749760"/>
          </a:xfrm>
          <a:prstGeom prst="flowChartDocument">
            <a:avLst/>
          </a:prstGeom>
          <a:gradFill rotWithShape="0">
            <a:gsLst>
              <a:gs pos="0">
                <a:srgbClr val="992700">
                  <a:alpha val="30196"/>
                </a:srgbClr>
              </a:gs>
              <a:gs pos="100000">
                <a:srgbClr val="f0d8c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9af9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5B9A-D71A-431D-9698-FF1A4AB2C305}" type="datetime2">
              <a:rPr b="0" lang="en-US" sz="1200" spc="-1" strike="noStrike">
                <a:solidFill>
                  <a:srgbClr val="b9af93"/>
                </a:solidFill>
                <a:latin typeface="Corbel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af9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CB13-73BE-4FE0-A61B-D27E80C5634C}" type="slidenum">
              <a:rPr b="0" lang="en-US" sz="1400" spc="-1" strike="noStrike">
                <a:solidFill>
                  <a:srgbClr val="b9af93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rganigramme : Document 6"/>
          <p:cNvSpPr/>
          <p:nvPr/>
        </p:nvSpPr>
        <p:spPr>
          <a:xfrm rot="10800000">
            <a:off x="0" y="772920"/>
            <a:ext cx="9144000" cy="5932440"/>
          </a:xfrm>
          <a:prstGeom prst="flowChartDocument">
            <a:avLst/>
          </a:prstGeom>
          <a:gradFill rotWithShape="0">
            <a:gsLst>
              <a:gs pos="0">
                <a:srgbClr val="992700">
                  <a:alpha val="55294"/>
                </a:srgbClr>
              </a:gs>
              <a:gs pos="100000">
                <a:srgbClr val="e0a990">
                  <a:alpha val="0"/>
                </a:srgbClr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rganigramme : Document 7"/>
          <p:cNvSpPr/>
          <p:nvPr/>
        </p:nvSpPr>
        <p:spPr>
          <a:xfrm rot="10800000">
            <a:off x="0" y="990360"/>
            <a:ext cx="9144000" cy="4830480"/>
          </a:xfrm>
          <a:prstGeom prst="flowChartDocument">
            <a:avLst/>
          </a:prstGeom>
          <a:gradFill rotWithShape="0">
            <a:gsLst>
              <a:gs pos="0">
                <a:srgbClr val="992700">
                  <a:alpha val="30196"/>
                </a:srgbClr>
              </a:gs>
              <a:gs pos="100000">
                <a:srgbClr val="e9c4b4">
                  <a:alpha val="0"/>
                </a:srgbClr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a3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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51"/>
              </a:spcBef>
              <a:buClr>
                <a:srgbClr val="a5644e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51"/>
              </a:spcBef>
              <a:buClr>
                <a:srgbClr val="b58b80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51"/>
              </a:spcBef>
              <a:buClr>
                <a:srgbClr val="c3986d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51"/>
              </a:spcBef>
              <a:buClr>
                <a:srgbClr val="a19574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9af9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6B71-011F-4E93-AB87-F03CFC51A9A6}" type="datetime2">
              <a:rPr b="0" lang="en-US" sz="1200" spc="-1" strike="noStrike">
                <a:solidFill>
                  <a:srgbClr val="b9af93"/>
                </a:solidFill>
                <a:latin typeface="Corbel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af9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AEF8-BD13-4783-8324-A4C58674C542}" type="slidenum">
              <a:rPr b="0" lang="en-US" sz="1400" spc="-1" strike="noStrike">
                <a:solidFill>
                  <a:srgbClr val="b9af93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a3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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51"/>
              </a:spcBef>
              <a:buClr>
                <a:srgbClr val="a5644e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51"/>
              </a:spcBef>
              <a:buClr>
                <a:srgbClr val="b58b80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51"/>
              </a:spcBef>
              <a:buClr>
                <a:srgbClr val="c3986d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51"/>
              </a:spcBef>
              <a:buClr>
                <a:srgbClr val="a19574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9af9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9F21-475F-425B-A5EE-6A369F8FBAFB}" type="datetime2">
              <a:rPr b="0" lang="en-US" sz="1200" spc="-1" strike="noStrike">
                <a:solidFill>
                  <a:srgbClr val="b9af93"/>
                </a:solidFill>
                <a:latin typeface="Corbel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af9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1204-10E2-48BA-841C-AE967C951257}" type="slidenum">
              <a:rPr b="0" lang="en-US" sz="1400" spc="-1" strike="noStrike">
                <a:solidFill>
                  <a:srgbClr val="b9af93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Organigramme : Document 6"/>
          <p:cNvSpPr/>
          <p:nvPr/>
        </p:nvSpPr>
        <p:spPr>
          <a:xfrm rot="10800000">
            <a:off x="0" y="772920"/>
            <a:ext cx="9144000" cy="5932440"/>
          </a:xfrm>
          <a:prstGeom prst="flowChartDocument">
            <a:avLst/>
          </a:prstGeom>
          <a:gradFill rotWithShape="0">
            <a:gsLst>
              <a:gs pos="0">
                <a:srgbClr val="992700">
                  <a:alpha val="55294"/>
                </a:srgbClr>
              </a:gs>
              <a:gs pos="100000">
                <a:srgbClr val="e0a990">
                  <a:alpha val="0"/>
                </a:srgbClr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rganigramme : Document 7"/>
          <p:cNvSpPr/>
          <p:nvPr/>
        </p:nvSpPr>
        <p:spPr>
          <a:xfrm rot="10800000">
            <a:off x="0" y="990360"/>
            <a:ext cx="9144000" cy="4830480"/>
          </a:xfrm>
          <a:prstGeom prst="flowChartDocument">
            <a:avLst/>
          </a:prstGeom>
          <a:gradFill rotWithShape="0">
            <a:gsLst>
              <a:gs pos="0">
                <a:srgbClr val="992700">
                  <a:alpha val="30196"/>
                </a:srgbClr>
              </a:gs>
              <a:gs pos="100000">
                <a:srgbClr val="e9c4b4">
                  <a:alpha val="0"/>
                </a:srgbClr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a3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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51"/>
              </a:spcBef>
              <a:buClr>
                <a:srgbClr val="a5644e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51"/>
              </a:spcBef>
              <a:buClr>
                <a:srgbClr val="b58b80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51"/>
              </a:spcBef>
              <a:buClr>
                <a:srgbClr val="c3986d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51"/>
              </a:spcBef>
              <a:buClr>
                <a:srgbClr val="a19574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9af9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3EAA-8528-4DDC-9550-27A25EEE1C1F}" type="datetime2">
              <a:rPr b="0" lang="en-US" sz="1200" spc="-1" strike="noStrike">
                <a:solidFill>
                  <a:srgbClr val="b9af93"/>
                </a:solidFill>
                <a:latin typeface="Corbel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af9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9CD5-C6AE-4104-8638-3AE71F217751}" type="slidenum">
              <a:rPr b="0" lang="en-US" sz="1400" spc="-1" strike="noStrike">
                <a:solidFill>
                  <a:srgbClr val="b9af93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Organigramme : Document 6"/>
          <p:cNvSpPr/>
          <p:nvPr/>
        </p:nvSpPr>
        <p:spPr>
          <a:xfrm rot="10800000">
            <a:off x="0" y="772920"/>
            <a:ext cx="9144000" cy="5932440"/>
          </a:xfrm>
          <a:prstGeom prst="flowChartDocument">
            <a:avLst/>
          </a:prstGeom>
          <a:gradFill rotWithShape="0">
            <a:gsLst>
              <a:gs pos="0">
                <a:srgbClr val="992700">
                  <a:alpha val="55294"/>
                </a:srgbClr>
              </a:gs>
              <a:gs pos="100000">
                <a:srgbClr val="e0a990">
                  <a:alpha val="0"/>
                </a:srgbClr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rganigramme : Document 7"/>
          <p:cNvSpPr/>
          <p:nvPr/>
        </p:nvSpPr>
        <p:spPr>
          <a:xfrm rot="10800000">
            <a:off x="0" y="990360"/>
            <a:ext cx="9144000" cy="4830480"/>
          </a:xfrm>
          <a:prstGeom prst="flowChartDocument">
            <a:avLst/>
          </a:prstGeom>
          <a:gradFill rotWithShape="0">
            <a:gsLst>
              <a:gs pos="0">
                <a:srgbClr val="992700">
                  <a:alpha val="30196"/>
                </a:srgbClr>
              </a:gs>
              <a:gs pos="100000">
                <a:srgbClr val="e9c4b4">
                  <a:alpha val="0"/>
                </a:srgbClr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a3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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51"/>
              </a:spcBef>
              <a:buClr>
                <a:srgbClr val="a5644e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51"/>
              </a:spcBef>
              <a:buClr>
                <a:srgbClr val="b58b80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51"/>
              </a:spcBef>
              <a:buClr>
                <a:srgbClr val="c3986d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51"/>
              </a:spcBef>
              <a:buClr>
                <a:srgbClr val="a19574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9af9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CFED-1226-470A-8A7F-199E6A3152F9}" type="datetime2">
              <a:rPr b="0" lang="en-US" sz="1200" spc="-1" strike="noStrike">
                <a:solidFill>
                  <a:srgbClr val="b9af93"/>
                </a:solidFill>
                <a:latin typeface="Corbel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af9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CF2E-1FD2-4999-AC10-1E2FC37F5165}" type="slidenum">
              <a:rPr b="0" lang="en-US" sz="1400" spc="-1" strike="noStrike">
                <a:solidFill>
                  <a:srgbClr val="b9af93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Organigramme : Document 6"/>
          <p:cNvSpPr/>
          <p:nvPr/>
        </p:nvSpPr>
        <p:spPr>
          <a:xfrm rot="10800000">
            <a:off x="0" y="772920"/>
            <a:ext cx="9144000" cy="5932440"/>
          </a:xfrm>
          <a:prstGeom prst="flowChartDocument">
            <a:avLst/>
          </a:prstGeom>
          <a:gradFill rotWithShape="0">
            <a:gsLst>
              <a:gs pos="0">
                <a:srgbClr val="992700">
                  <a:alpha val="55294"/>
                </a:srgbClr>
              </a:gs>
              <a:gs pos="100000">
                <a:srgbClr val="e0a990">
                  <a:alpha val="0"/>
                </a:srgbClr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Organigramme : Document 7"/>
          <p:cNvSpPr/>
          <p:nvPr/>
        </p:nvSpPr>
        <p:spPr>
          <a:xfrm rot="10800000">
            <a:off x="0" y="990360"/>
            <a:ext cx="9144000" cy="4830480"/>
          </a:xfrm>
          <a:prstGeom prst="flowChartDocument">
            <a:avLst/>
          </a:prstGeom>
          <a:gradFill rotWithShape="0">
            <a:gsLst>
              <a:gs pos="0">
                <a:srgbClr val="992700">
                  <a:alpha val="30196"/>
                </a:srgbClr>
              </a:gs>
              <a:gs pos="100000">
                <a:srgbClr val="e9c4b4">
                  <a:alpha val="0"/>
                </a:srgbClr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a3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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51"/>
              </a:spcBef>
              <a:buClr>
                <a:srgbClr val="a5644e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51"/>
              </a:spcBef>
              <a:buClr>
                <a:srgbClr val="b58b80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51"/>
              </a:spcBef>
              <a:buClr>
                <a:srgbClr val="c3986d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51"/>
              </a:spcBef>
              <a:buClr>
                <a:srgbClr val="a19574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9af9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09EE-E5E3-4383-914C-D64820808356}" type="datetime2">
              <a:rPr b="0" lang="en-US" sz="1200" spc="-1" strike="noStrike">
                <a:solidFill>
                  <a:srgbClr val="b9af93"/>
                </a:solidFill>
                <a:latin typeface="Corbel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af9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CC02-892A-4244-BD5B-A7759DA96371}" type="slidenum">
              <a:rPr b="0" lang="en-US" sz="1400" spc="-1" strike="noStrike">
                <a:solidFill>
                  <a:srgbClr val="b9af93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Organigramme : Document 6"/>
          <p:cNvSpPr/>
          <p:nvPr/>
        </p:nvSpPr>
        <p:spPr>
          <a:xfrm rot="10800000">
            <a:off x="0" y="772920"/>
            <a:ext cx="9144000" cy="5932440"/>
          </a:xfrm>
          <a:prstGeom prst="flowChartDocument">
            <a:avLst/>
          </a:prstGeom>
          <a:gradFill rotWithShape="0">
            <a:gsLst>
              <a:gs pos="0">
                <a:srgbClr val="992700">
                  <a:alpha val="55294"/>
                </a:srgbClr>
              </a:gs>
              <a:gs pos="100000">
                <a:srgbClr val="e0a990">
                  <a:alpha val="0"/>
                </a:srgbClr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rganigramme : Document 7"/>
          <p:cNvSpPr/>
          <p:nvPr/>
        </p:nvSpPr>
        <p:spPr>
          <a:xfrm rot="10800000">
            <a:off x="0" y="990360"/>
            <a:ext cx="9144000" cy="4830480"/>
          </a:xfrm>
          <a:prstGeom prst="flowChartDocument">
            <a:avLst/>
          </a:prstGeom>
          <a:gradFill rotWithShape="0">
            <a:gsLst>
              <a:gs pos="0">
                <a:srgbClr val="992700">
                  <a:alpha val="30196"/>
                </a:srgbClr>
              </a:gs>
              <a:gs pos="100000">
                <a:srgbClr val="e9c4b4">
                  <a:alpha val="0"/>
                </a:srgbClr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a3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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51"/>
              </a:spcBef>
              <a:buClr>
                <a:srgbClr val="a5644e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51"/>
              </a:spcBef>
              <a:buClr>
                <a:srgbClr val="b58b80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51"/>
              </a:spcBef>
              <a:buClr>
                <a:srgbClr val="c3986d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51"/>
              </a:spcBef>
              <a:buClr>
                <a:srgbClr val="a19574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9af9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EEAA-5D77-4F75-A1DB-1C6089F3715A}" type="datetime2">
              <a:rPr b="0" lang="en-US" sz="1200" spc="-1" strike="noStrike">
                <a:solidFill>
                  <a:srgbClr val="b9af93"/>
                </a:solidFill>
                <a:latin typeface="Corbel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af9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1ED5-A455-4BFC-91C1-479AC396E28A}" type="slidenum">
              <a:rPr b="0" lang="en-US" sz="1400" spc="-1" strike="noStrike">
                <a:solidFill>
                  <a:srgbClr val="b9af93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a3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a3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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51"/>
              </a:spcBef>
              <a:buClr>
                <a:srgbClr val="a5644e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51"/>
              </a:spcBef>
              <a:buClr>
                <a:srgbClr val="b58b80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51"/>
              </a:spcBef>
              <a:buClr>
                <a:srgbClr val="c3986d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51"/>
              </a:spcBef>
              <a:buClr>
                <a:srgbClr val="a19574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9af9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C058-8A43-448D-BE21-BE43F7AD5324}" type="datetime2">
              <a:rPr b="0" lang="en-US" sz="1200" spc="-1" strike="noStrike">
                <a:solidFill>
                  <a:srgbClr val="b9af93"/>
                </a:solidFill>
                <a:latin typeface="Corbel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af9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789D-F371-4BA1-B968-5CA664A27808}" type="slidenum">
              <a:rPr b="0" lang="en-US" sz="1400" spc="-1" strike="noStrike">
                <a:solidFill>
                  <a:srgbClr val="b9af93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ZoneTexte 3"/>
          <p:cNvSpPr/>
          <p:nvPr/>
        </p:nvSpPr>
        <p:spPr>
          <a:xfrm>
            <a:off x="857160" y="257652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orbel"/>
              </a:rPr>
              <a:t>Company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orbel"/>
              </a:rPr>
              <a:t>PRESENTATION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785880" y="2179800"/>
            <a:ext cx="757224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ffffff"/>
                </a:solidFill>
                <a:latin typeface="Corbel"/>
              </a:rPr>
              <a:t>Cont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ZoneTexte 4"/>
          <p:cNvSpPr/>
          <p:nvPr/>
        </p:nvSpPr>
        <p:spPr>
          <a:xfrm>
            <a:off x="642960" y="114300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Corbel"/>
              </a:rPr>
              <a:t>Ti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785880" y="2179800"/>
            <a:ext cx="757224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ffffff"/>
                </a:solidFill>
                <a:latin typeface="Corbel"/>
              </a:rPr>
              <a:t>Cont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ZoneTexte 4"/>
          <p:cNvSpPr/>
          <p:nvPr/>
        </p:nvSpPr>
        <p:spPr>
          <a:xfrm>
            <a:off x="642960" y="114300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Corbel"/>
              </a:rPr>
              <a:t>Ti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9T19:22:44Z</dcterms:created>
  <dc:creator>Ric</dc:creator>
  <dc:description/>
  <dc:language>en-US</dc:language>
  <cp:lastModifiedBy>Ric</cp:lastModifiedBy>
  <dcterms:modified xsi:type="dcterms:W3CDTF">2006-07-30T13:02:35Z</dcterms:modified>
  <cp:revision>7</cp:revision>
  <dc:subject/>
  <dc:title>Diapositive 1</dc:title>
</cp:coreProperties>
</file>