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29B-8086-4B90-A1B9-D956F54C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209-CCF0-4AAB-99F7-7075B835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4338D-0251-426A-BFE2-7CB27B5C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132B3-8F16-4C8D-950F-ED0BFC2F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57974-1FAF-4BF9-8076-569C7EE5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DDADD-83DA-4017-8589-3C54EAE2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6F4A5-976A-4ABE-94FF-D027D3E3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B1D3E-AC25-4CFB-9648-5DE83FE8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5ECD9-83EF-4F1C-88B5-30245177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EF2A3-2112-4163-B28A-F96E5C0A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541BD-0C0B-4F3D-956E-FBF8CE0B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A78E9-1949-4C66-8A12-8F49D0CD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DCE8-E35C-47FD-ABDA-7618FB0C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52D3A-F0BA-4A4B-A6DF-7A73CD81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D3507-9B72-4024-B106-1C0B303B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D70CD-88B8-4FBD-A7E9-8C1DE383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64C85-D85A-4769-B265-8D05F4DA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406E5-82DC-44A1-BD23-50F4BDA9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4ED21-61A6-4E26-AE51-AC00EBC3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F83B2-B854-422D-9B78-7B61ACA0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EABC3-32CC-4BED-BA9F-3AB5B4C1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3B49D-3DDB-409A-B75D-EC9C6412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D6116-38F0-449E-806A-479B7FCA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19C-60F1-4EDC-9949-D7B5D05E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378EA-ED8F-494B-96FA-BFC520C7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5A52-B32B-4112-91BA-C26C66CB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E080-AD5F-4C49-9B93-29B4060C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5EE9-E2DD-4F3E-8234-18092721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CB30-C385-475D-A7B6-65B55AB5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C541-DBAC-4D41-A198-79B952AC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6A0D-8920-4678-873E-CB603958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D2CC-1E2B-42D0-9746-F6B50A78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866-C3C0-40AB-9097-D9274DA3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2185-5C84-4BA6-85D0-384D830F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FC6C-8BF1-4937-94C5-9227674B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662A-F407-4F89-AC10-176AB969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51A2-1097-479A-A309-B316BE3E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0783-D154-461A-B035-AAB91E33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6ED17-932D-4F95-89C7-B33E7C67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D245E-9CA9-4B73-AD71-3B5E7162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ACA27-70AC-46B7-B731-3C88D7FF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0F8EA-2CD5-4046-BF08-E6524226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0580E-A4CE-4E60-8BDA-91CC2AB3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F56B-5DDE-44F8-B6C9-29E03A09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915C9-1EED-4012-9235-E205FFDD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D03F3-53B4-4E1B-8D3A-1935CA42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D5416-37C9-427D-9088-0AE74F72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03E7A-A145-46AC-8A1A-970E156A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CE2E2-9580-448F-BE2B-BEB05EAC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6A173-849C-4C74-869B-12ECB993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A67F7-9CA4-4F90-AE0B-02B36F21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415F1-05E1-4B43-A4D2-275412BC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1FF68-508B-4B10-83E5-00034724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3535A-861E-4B4D-947E-E37A6079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889-2B6D-4A46-96B6-08CD79EC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7D799-18F8-4D02-A7FC-1372D064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2673F-1253-4E67-9135-2229A60D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254F2-1C72-4981-A4C7-7FFD664F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61510-9337-4534-877E-3BF9CBE9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20BC2-9DFD-48DB-B538-E846CA49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BFE7E-B9B6-4166-8C85-513DF648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6D5CA-FBC8-41E3-8B72-8E2E0511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17339-88BC-42E8-9071-2C339D24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FBE89-27C1-413A-AF14-2D80EB61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F4056-7C59-4EDE-A57B-0926B403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F05-21D2-4C6E-9D0B-603598C9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06513-1A34-49D1-95F1-DFD0D066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558E3-04CD-4166-8704-5BBAEFBD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936B1-9E16-484C-B800-03480D98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54C12-5F21-41E6-B0DA-FE797DC1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D64EC-B752-4A88-849A-7D6648D0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A0A52-12FE-4EAC-8DB3-797E3AC4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2208D-D4F7-4391-B363-BB15E11D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845E7-E4BD-4257-AAA4-5E7B484B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0E74D-2EA4-4B10-8AE4-20FE117D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63D30-F46A-40ED-8FAC-4D5F057B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8AA4-B7EF-48D1-A465-F31D1036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D2C30-B370-47AB-B43F-76551B8E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31C9D-44C0-4801-BEC8-49D6E3E5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80DE2-5E10-4576-9E46-01C640A9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8CE72-305D-4799-8C1B-226A8E17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D9702-44FF-40F2-89DD-F76A9E01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C6CD3-5077-4E5E-97C8-A62532D4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85150-D39B-438A-B088-B76F1D73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21A32-3971-4AB6-A91E-7BAA938B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E37D0-0769-453B-B33D-5158D571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72F3C-B881-42E7-AE49-5A9B5DB9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C146-B1F1-4740-B3B5-4ED24594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96DAC-8C75-4D6E-9384-4D45E5A1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DAE0F-2626-4180-AE6F-8DA66629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255F1-BA21-43CD-8071-10730085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75D75-B360-4A4F-96C9-50395F47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C2EEF-9D30-43BF-9E6C-34522B1A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BFEC1-7AA8-4E07-8867-233097FE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840C5-ED00-4CEC-91DD-0130B561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3C759-15E0-434C-8AA3-C91AE13D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C89EE-9F75-4C0A-B2D4-4CD25541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36FDB-907B-47E2-8FF2-F9BB901B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4DC-6927-4B48-98F0-6F0657F3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12DAF-F141-475B-8E91-4BBC459E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4A055-92A0-405A-B260-B9C26E34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18233-A920-49D1-99F2-A314F526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8631E-8374-41E3-A63A-806DA360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74F58-C746-46AE-B876-BD004E17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E223C-E979-4E3F-A81F-1EAFEC10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D4A80-FB84-431E-91AA-B03BA0AA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9EBA3-3EBF-41E0-A67A-E011645F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1EE79-6CD2-4D71-92FA-AB080208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D0D47-623F-40A6-A357-2D7ADF51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4BF1-7F91-46C3-BF95-58E3D93E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A7FCE-D9C1-48F6-B968-B273175E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9B265-D77D-44D3-81A9-331E722E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B1072-E041-4690-85C6-CE1C0123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38E46-DB4A-4C82-9DDB-F65151C8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DB92B-6FFA-4DAF-B192-E12A418B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C6CCB-0383-4328-A41E-9C52A4E5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B5730-CD85-43D1-BC6B-A3AD61A8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830A2-305C-4F27-BF8E-4C3EC231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3E7DF-6C3D-4C73-AB81-98CEF3F9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E966C-51A8-4FCB-AD86-AA424EC1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C065-CECB-4762-BC2A-33381E27283D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EF57-67B0-4824-9D7E-A03DC9946F8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CF83-7604-4F9C-8945-EA903BFC4E3E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668E-A33A-4BEB-AA6D-1D442F430CE9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Forme 9"/>
          <p:cNvSpPr/>
          <p:nvPr/>
        </p:nvSpPr>
        <p:spPr>
          <a:xfrm rot="16200000">
            <a:off x="7553880" y="5254920"/>
            <a:ext cx="189252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2556-C4FB-4475-8E10-A4BDD5FEC946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0716-1634-409A-B608-F97F6A698483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06F3-0244-4E50-985A-52E0E25ADDCB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F70A-DC30-42D9-9596-27D89F2A09C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Forme 6"/>
          <p:cNvSpPr/>
          <p:nvPr/>
        </p:nvSpPr>
        <p:spPr>
          <a:xfrm flipV="1" rot="5400000">
            <a:off x="7554240" y="310320"/>
            <a:ext cx="18921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riangle rectangle 7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Connecteur droit 8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Connecteur droit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8A20-1F15-4BAF-AE8C-9592DA175B6F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11BF-780B-4CDF-BBAE-7C348881630B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2A7C-DC7D-4473-8E67-B49236346CB7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056E-F662-4170-AD69-67566A983C8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F9BC-3A49-4A97-BA5E-75DD82F7E914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3B0E-9DD5-49B9-9CF7-3E533DE4266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4E6F-344F-4D87-8016-B605D35F4A21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3EFE-91E0-4065-9F73-0F5E1A128B0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961B-6B4D-4C7E-AEBF-8B6367F19229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E5E9-0FEE-4A1D-88EA-5CA395D547B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00B1-7992-4773-AC9B-D3B7B3D4945B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7613-7DFB-437F-B9E3-CA6934233411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3633840" y="1700280"/>
            <a:ext cx="51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388c"/>
                </a:solidFill>
                <a:latin typeface="Arial"/>
              </a:rPr>
              <a:t>PRESENTATION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17080" y="242100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fr-CA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1:11:20Z</dcterms:created>
  <dc:creator>Ric</dc:creator>
  <dc:description/>
  <dc:language>en-US</dc:language>
  <cp:lastModifiedBy>Mediac</cp:lastModifiedBy>
  <dcterms:modified xsi:type="dcterms:W3CDTF">2006-08-16T02:26:39Z</dcterms:modified>
  <cp:revision>6</cp:revision>
  <dc:subject/>
  <dc:title>PRESENTATION NAME</dc:title>
</cp:coreProperties>
</file>