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CEF-6FDB-4366-A0E4-393F52B2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58D-CF64-459E-A943-6E6DEAC6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E3F93-0468-4A67-9800-78361125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0A4DF-BBDB-4726-B39F-92C7EAC4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6A9AC-FCAF-4DA4-963B-C1C669B4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F47DD-6C83-497D-9EE8-1193CAE8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321F8-4D37-452C-88DF-D3E6B13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43C4A-AB0B-4BFC-AA02-297F0F52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4584A-7760-4A34-8EDF-1D06FA34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56EE8-D69D-4395-B25E-F57D2ECB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CB529-051C-4D4B-814E-E7C27A0A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BB1A6-AE8B-4C4C-AE73-D6351E54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AD8-7A0F-46D8-9143-BFBA347B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F88E9-F90B-426C-B995-1A730709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90608-4ABC-4B7F-B14F-82D9DCBC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CBE98-A77B-40A8-8232-B7C21BE6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F7625-0C3F-47A8-8C68-12249CA8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42885-6048-4648-99D0-2D2169C8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D90EB-13CD-4387-96A5-848D5D57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91272-35CA-4A7D-BA4B-648573D9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81549-9218-423E-B0A0-6787846D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2FD51-C3A4-4787-832E-F11EF1E9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46A69-4257-4D40-8499-BEF25548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BF4-77B5-4668-A901-06279B10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E0B6C-84E9-4544-AECE-10F782C3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6E06-D22E-40CE-831F-BD1763D2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161D-8C38-4F4D-839C-6E0F6CCE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78D8-8644-4813-915D-FC7ABB37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A205-C7FA-4436-9EC6-0B52F423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566C-DFCF-40FD-915B-DA8B3422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A20C-99F0-4A86-9075-B0DFCF57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8328-6F4F-40BD-B2BB-A05E12DC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E08-C559-47B0-8071-75E99085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75C5-7D86-4856-8434-A7DD4B66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AB9A-8857-4ED4-B952-D1FBE6B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8B05-23F3-4F56-B024-C7F85149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17FC-7F14-4E7F-9412-5C2B0B63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3E8F-9170-4555-A698-1A493074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E154-E974-4311-91D5-8B2B97F7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08B1-1188-4410-8C7D-D28F5E15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3132-5B3B-4307-BF24-270055D1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E825-C11A-42DA-AF5E-356CEAF0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7CDB-CC04-4E57-BD06-AFE5EE4A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BD8-59A6-4535-B395-760F33A6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A99A-7AF0-4024-B822-68B2DAFB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4F64B-9108-4F1B-8CFE-24D7E346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055F0-F9DD-4F5A-AF4C-B7F9FC46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F684-5407-4211-ACF5-FB06B8F2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E873A-AE8C-47A5-9220-0F6C21CE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6EDB-4535-45AB-98CF-C34BEEBC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8A27-FE1E-42B5-8105-C317A65A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9C227-D93C-4A64-A850-DE956209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EED6-E83D-4594-90C2-35CD14F9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822F-E285-4851-A80B-B5289C55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063-144D-4A57-8A27-234F1F1C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5860-5DDE-45CC-9769-21BA898E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C5CE-6FA3-495A-A266-465E736E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634B6-6182-4EBC-85D7-C214BBDC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5FFAC-DAD6-402C-BE62-156BE01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5B91B-138F-4D92-899D-ED6B92F6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1994-D2CD-45C6-83E2-BB7C9C64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C2F7-EAAF-4330-B98F-DE27F21F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52C6B-696D-467C-84BA-9A005B13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418ED-F25A-46F2-8D2A-A0EDF3DB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2B0F7-5739-4844-9230-CBA88247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32F-4702-4BF9-8925-88D4C2E2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77198-C9D7-4D3E-ACBA-2F385428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2AC8-4E9C-4022-B860-8379EE65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3108F-C830-470E-A41E-734FAE96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A0DB-B79A-457A-89DE-E6CF5468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83F5F-DCCC-4634-96C1-70BA2390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52E50-4168-4A1C-AABC-7C9EC29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42B4-9FD7-4C93-9BC6-C70B95EA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E043E-5235-4266-BB26-209040D1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8F248-7A07-444E-BCB7-79B797E0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0CD63-26E9-4D17-A0C7-4E25FBD7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6CA-AD1D-459E-951A-536E6B07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968BB-7FF2-4DF6-81C8-97C15DC3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F4F5-4C7F-4B06-A1F3-B10FFC76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26700-9E13-49EA-9EC1-115AF732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D012-834A-419F-A53E-D87AF24B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C963F-1FC0-48B9-BEE2-8CF31B15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FFA0A-583B-440F-AB1B-0C78B0B5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8A9EB-C59B-4FCE-8EE4-858EED79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2E0CC-B905-45F6-9DFA-FFDDFAF9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9C56F-EBE1-46D1-ABBB-8C62CFF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DB885-23FB-46AF-9B3B-69690E59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F43-D6DF-4F61-B7DF-0F5714AC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1E0B4-937F-4D74-BC5B-0EB51E4D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BB55A-004F-458B-89C1-187B583B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2C2A9-EF32-482C-8D1E-D0AFAE21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9C0F1-EEE7-45EF-BC7B-EB532BED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F1B92-5C8F-4BE1-998B-7E438A11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1CC5D-30E6-416D-BD86-FDD83574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6410C-4DAA-4954-941C-A0DC0DB2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FDC6-1477-4CF0-8BF7-500ED219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ACC60-A499-44AD-A575-E36F21E5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19FD1-A865-403A-893F-8E10FED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E6F-36EC-496F-9A0F-C8CB2A42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DCBA7-4E77-48C4-B1AA-C5E014C6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C0F9E-6640-4F2E-9E0D-115A78BC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AB6B4-FFFE-4F25-96DD-1C9CBCFE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3E926-ED6C-4B59-BE58-4483061F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B2E5C-B3FA-4618-88FC-248C7F0F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E9520-5A10-4E6C-8575-1F4126D0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9655D-B8CD-4610-9F73-BEC3A058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97F02-CCE9-4951-BBCE-58B33DBF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003C1-883A-41D1-AD81-06DAF8A2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16B62-9F2F-48FE-9970-0E55F0E2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5B52-5B3B-4636-8869-C0C2F65C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5D0DD-4A67-4940-B8F7-686C907F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C41F7-8459-4065-BA68-2E99917B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54A8A-91A7-487A-A232-3E20FF77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36574-DE5F-4AAE-89DA-3F867B0A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36D2E-D5DD-4E68-A69C-BC43B75E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9860-00B4-4182-AAA0-91B93030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C3461-8DA7-4362-957D-6F4ECB59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3A8A9-C2DA-4FB6-AAA8-47CD3DA8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31E68-0B22-492F-A212-550DC133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2A5E8-09B7-4FCC-949C-36C08BCB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92F2-CA64-4B63-B330-EA8A646371D1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F550-5947-457A-95E1-B3694B176D5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089B-7EE6-4C37-9FD9-22E7C9281D68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8378-5C38-4C5E-B008-89EB75A6623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Forme 9"/>
          <p:cNvSpPr/>
          <p:nvPr/>
        </p:nvSpPr>
        <p:spPr>
          <a:xfrm rot="16200000">
            <a:off x="7553880" y="5254920"/>
            <a:ext cx="18925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97527"/>
              </a:gs>
              <a:gs pos="100000">
                <a:srgbClr val="f9df8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F69F-AE7E-4D92-93F3-E5337D667EC5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8439-AE0C-4377-9976-8F73DC612967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B66B-D4FB-4FC5-AC98-70B5B37D490A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3B50-9BAF-43D3-9FED-39643BEA846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orme 6"/>
          <p:cNvSpPr/>
          <p:nvPr/>
        </p:nvSpPr>
        <p:spPr>
          <a:xfrm flipV="1" rot="5400000">
            <a:off x="7554240" y="310320"/>
            <a:ext cx="18921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97527"/>
              </a:gs>
              <a:gs pos="100000">
                <a:srgbClr val="f9df8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riangle rectangle 7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nnecteur droit 8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onnecteur droit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DA6E-4D1B-4A33-A6FB-E6287519B8EB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6F92-1EA7-41A8-851F-60312F2B0509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09FC-877D-49D8-AB68-AE17BEE36960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FF95-D011-43D8-8144-A7D73652B96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71E6-908F-4999-9EEA-259FFE77DB9D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09F7-5721-4BAD-BA9A-2B474F108C4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840C-3637-41E3-A96A-83581AAFD812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5567-D481-4ADB-BD3F-276621E18DA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8FFC-EA3B-402F-857C-8F1AA92FE24B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5127-6B9F-41E8-AA4F-E56E65C03E1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5552-1AC2-4386-9ED1-149989BE1942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FA83-C094-4C4F-9279-9262C263784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633840" y="1700280"/>
            <a:ext cx="51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ceb966"/>
                </a:solidFill>
                <a:latin typeface="Arial"/>
              </a:rPr>
              <a:t>PRESENTATION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17080" y="24210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fr-CA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1:11:20Z</dcterms:created>
  <dc:creator>Ric</dc:creator>
  <dc:description/>
  <dc:language>en-US</dc:language>
  <cp:lastModifiedBy>Mediac</cp:lastModifiedBy>
  <dcterms:modified xsi:type="dcterms:W3CDTF">2006-08-16T02:26:53Z</dcterms:modified>
  <cp:revision>7</cp:revision>
  <dc:subject/>
  <dc:title>PRESENTATION NAME</dc:title>
</cp:coreProperties>
</file>