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6B9-FB72-448A-BF4B-457EB379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323-1EA7-4A0A-A56C-33D3595F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BA37F-343E-45C5-9516-17B75AF4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7F26C-48E1-44E7-AD46-1A2C9E0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36535-A1A4-4B15-A0BC-D34D4074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AC54A-BD7A-44A4-BBE8-A198ED81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0E936-367B-4227-ACFA-54E8D79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8B28D-3D28-4303-AEC2-DF867C2D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2F5B5-B537-4677-9095-26E386A4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2838D-9176-4079-A0A5-F562AEF7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23499-D0E4-4B71-8FA5-88F304B8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160E0-3E42-4120-8754-19A3A859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529-0E10-4702-AA81-2AFA22C8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3075C-6989-4DF3-B6B2-7D78CA76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07F52-F0DE-4336-8146-9517AC3C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FB353-CBEB-4AF9-B3DF-3840DB86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C07DA-8BAE-423B-9F39-FBECD4E0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53947-0B4A-467D-B889-E83B2FBF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13D0C-57A9-4B79-B883-5AEC6DB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332FB-EE09-4F83-AD84-17590377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E77FC-0659-4D04-9D16-1AAB002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35046-A67C-458A-BE09-8F9A337D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9674D-B677-4C44-B22C-8B4E197A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1C6-0322-4DFC-8495-4F746653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539D5-7037-4776-B05F-B7A5EB76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4ED2-05BB-4BE8-8EFF-59C8AE2F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4DDC-6653-4A07-BC03-0A868888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38A-7D22-4742-878B-BFE6FEB8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DCFF-1D14-4326-93B8-3DE0D1FA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1F1E-D0A1-4785-A433-C2C4F6AD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8D78-3B27-4DC7-8C73-E3E342B9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8DD1-607F-431F-84B7-04CCE16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DC3-A951-4503-B15B-58E808C7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0A4-1B5B-4DE6-9A79-FE8CED3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677F-8ABE-4F06-A8F9-50D46629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6736-A6C5-489D-A2F7-C5A28A20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2D7E-7050-405A-9A18-7DB015CA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B14A-6439-491D-9221-B7F0490D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7176-E45D-4C22-BD7E-1E58318E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D4BB-D818-429B-97F9-B04D7105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11023-E2F1-4B53-96AA-58DE490E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BCB2-E200-486F-92CE-6F03ECE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C79F-7672-4C71-A2E7-0C42927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27F-95A9-4BA8-AB7A-53F9B7BD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21A6-E963-4DDB-BD10-FCF76850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B032-1844-4289-B3BD-81ADD47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7C97-B700-40C4-A52F-9BFC4DDB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589D-B5F8-40FA-B6E9-47D7160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836C-DC4E-4F24-9E0F-2DA95066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B4F3-F684-40F3-A5F1-5B0B8A04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AB04-2C2F-4FF8-A12D-7FB0B686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88A9-976C-4A74-9508-8BC4B7C7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7DCC-3A1C-4887-9988-D612FBB4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5250C-2000-4A8D-8211-B463071A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FFF-81EC-402E-BC1A-7D90F5E9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7C9A3-C5F0-463A-8C95-57132F9B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0AD5-D812-42E6-9C2D-7427C5DE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60DF6-DFC8-4982-B391-FC42A2BD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C52E-F2AE-432C-A844-00C7D8C5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914F-5F6E-46A8-B784-5D5B485B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83340-0DE8-45F1-A3D1-3EF6C5EA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ED57-A4B0-4544-A01D-912A8C0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6FC5-309E-4D78-BAFD-992126DA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4444-49CA-48D9-8DD7-43874122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CF45C-F023-4E0C-80FD-797E610A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676-52E2-4FAD-90BD-EF740752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30BDF-C054-4FD4-B368-366101D8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1D43-7673-4BF0-841C-E5CBBD66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E29ED-E3ED-4D66-93F7-84A50870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DF0BB-5560-48C5-9AF1-D509B1E4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1EDD5-A773-4373-966D-B73196AE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CEF6-89E1-4704-9465-7309B2BF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E1FA-DC92-47F5-A061-C7DBACB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8F86A-8573-4B05-A001-1ED3E189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C1AB-07FA-4C53-AD10-00E6B88D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2EF50-0962-4F13-B6EE-2EC37EFC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E4D-AAD6-4B61-ADE3-B9C14C13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331CF-F6A6-4BE8-9079-CF6A5F8D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9D22E-9491-4D74-BBC0-500AFE80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BE1D-12BC-4AC7-8EB6-88EE4A19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EBC1A-550F-4208-9EC4-F03D3183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8AE28-BA52-45D7-B383-0C1BBC4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0DED8-75C6-4A4F-8F9B-42897EE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0534F-76A7-43A0-A9C3-EBE0D791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8635-21ED-413A-B50D-A6548CF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617D-6A43-4237-AD46-4034B608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18F0A-DC55-43A0-8DB1-050A62F1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77A-29AF-4FD8-A33D-D6204B82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E5ACF-B190-462E-B7A6-FA0CD614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5B69-02C6-4F23-A466-63A2FD10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93A16-533F-49E6-BE62-C03A4A3A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4AF27-A51A-4980-9355-77E2D207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FF7EB-CEAB-49ED-BD5F-3D045136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8D269-F8B5-48F7-B4D2-0021F5FE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4F313-B209-4CCD-8454-F078C82F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DB345-E5DD-4259-A58A-E1295B47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27FF8-711C-4AAB-A524-5881C27A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6B98B-D3B7-4A84-B4DB-7874CE0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8DF-2847-4295-AA96-A3089D05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05253-D83B-4016-A3EA-F81283FE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1B096-FEA0-406E-997B-8649E34F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E15A-7559-4CF9-88C8-9D1D964E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8BF8-BD9C-4648-8BAC-44F479A9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A20E-885C-47BA-B1FB-B60C9EDA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EC61D-AA10-4E2B-BA9F-F5FF4BDA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A272-9E18-4D40-9414-1BF5F917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8A0F3-161C-43A1-8F49-890B556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2CF89-F1E8-4106-B957-57FB6776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BD600-3BA2-42CB-9ECC-DCFEC262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120-C85F-4A25-AF6C-4DDC53D7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CBF89-6CF9-4D8A-9F79-4729201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E3D7-87A0-4D9D-B5F5-143ACBF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B8596-F223-4BA9-B98A-4A0FA03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37527-E843-41CA-A5E7-0F1236DD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7B092-D310-464F-B618-8FAD64F6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93245-0EAA-41E7-97AF-6B4541A1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BFF4D-76CA-4A95-8E68-4048D8AF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142A7-C189-4040-9096-66BBED74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EABF1-F670-40B0-AFEB-613D84EB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73C14-AA0F-458C-9FAD-F618CE4E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7E95-9AEA-43B6-B358-6A93A8E714FD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831-125D-4C06-AAA7-2CE30818CE7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DC27-830E-4208-93ED-FFE47208DC49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8857-B7C1-4783-BA5F-2B564D87724B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B4C6-51E2-41B5-8BA2-BB5AEB79B023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E97C-773B-46D9-AD75-B9AC730C54B3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7658-07E5-4800-BC55-D05BC58EFF0E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3C6-F846-4D0D-8CE6-3C65D6BBE8A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riangle rectangle 7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6C63-9A1D-48D7-AAFA-346DDC48B83A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3290-BC58-42AE-A917-8B0590DE844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2EB8-668E-4537-B6B3-4A570813BDB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3BFD-CAE8-47E9-B725-26F98357D58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EB75-2C7A-45F7-A4B0-9C6B26C1FD8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4444-3C82-46EB-8F7C-1B14C7935EE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F637-F94B-4C4D-AEB0-C980273E94E6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189C-8B8B-40D5-9EA0-9BF71F42ACF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6AAF-6BBA-4822-896A-E083A144048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333C-7DCB-42D3-8859-E22F409E1E0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66FD-AFB9-42CB-BF37-901F47A7EF39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52F0-E8B2-456C-8FE0-4C5E7BF4583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633840" y="1700280"/>
            <a:ext cx="51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727ca3"/>
                </a:solidFill>
                <a:latin typeface="Arial"/>
              </a:rPr>
              <a:t>PRESENTATION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17080" y="24210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fr-CA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1:11:20Z</dcterms:created>
  <dc:creator>Ric</dc:creator>
  <dc:description/>
  <dc:language>en-US</dc:language>
  <cp:lastModifiedBy>Mediac</cp:lastModifiedBy>
  <dcterms:modified xsi:type="dcterms:W3CDTF">2006-08-16T02:27:33Z</dcterms:modified>
  <cp:revision>10</cp:revision>
  <dc:subject/>
  <dc:title>PRESENTATION NAME</dc:title>
</cp:coreProperties>
</file>