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F64-9CE6-404F-B217-9A502C3D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CA6-DDC7-417E-B5F2-AB79507F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E19B6-DD54-44EA-AED0-69FC502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4C18D-1AFD-4747-AD15-AFB43EE4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3ED1F-5E02-43BD-B715-61720B36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C73CE-8574-49DD-A336-804C6478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CC719-7E37-4731-80C1-E9423F7B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38971-259C-449D-A9BA-9E93E66E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A5407-76B2-40C9-AE7E-43E96C04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395DA-A2F9-4EB8-8E8F-94CD3131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D0EA8-080F-48E8-A486-F02D1E50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EF7C6-C55E-47A2-9C7F-3FCF2EC4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F5D-FB24-46FF-BE95-92BC415C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74003-39EC-4EE9-9298-53A44C5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EA677-3D55-43E1-95C0-40B898FE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F4D2B-999D-4391-AE13-C0FA5AC8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3FF4C-6ED4-46D0-B77D-C9579C50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3B1F9-4D04-4BDB-8B7C-A10C5D64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70DD4-8B87-487D-AF0F-8696156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E1BF0-FEFE-4FF7-984B-DFD4181B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14B28-C35B-40D6-8FA9-A0272E19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19CB6-9F5E-48C0-9D31-565BA810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BAA0B-A75D-4CB6-BB39-EA26236F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9A2-61CC-4441-B632-E73FF1FE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1AF69-04BC-49BE-9A47-23D7D8CD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805A-0E85-4E61-B12E-585F683F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8110-25F8-4BC4-AA41-88EFF02F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C636-9C54-4850-B687-041473D8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1825-6C56-4E43-BE65-232F98DC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EF81-77B8-48CC-AF05-EE42C451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69F8-AC5B-43E9-BC38-41BB5201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BD3F-2A53-4FDF-8CDD-C460BAB3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07D-479E-458D-8DE6-AF52805B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621F-D884-4BD3-A378-E69040D6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C433-9B9D-4F5E-87DE-9B7963F0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E32A-5F59-4A29-8CE4-C46411F2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E8B1-1FC0-4136-8956-54B210C6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39DC-C191-4947-981C-81C27F76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2499-31C4-46C9-A127-D9225BC5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76FF-5CDC-42C0-81E2-D4EE5EE2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33E44-A5C1-4B26-906E-909B3031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25D2-2D5C-4C1D-A7CF-002BB9D7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4F17-14BA-41D2-94E7-9B0121D4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740-ED02-44F1-B640-C91D34A4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83BB-EC47-4037-94D3-3E97A71A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D609-1A09-4C70-9AAE-0C147723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5588-1131-40C5-9E36-7CBAC21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1DB4-97F7-4022-B6DF-519D726E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D03A-9919-45FF-9D27-94559A9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6D10-3340-472E-92A4-5F4DBC74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8DCB6-0114-4B12-910B-E911958D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EAFA-5493-4DFC-A693-5CE0B31D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4325-127C-4493-A146-476999A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5433-F5A1-4ACD-A4B9-5ED69828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D9B-FA35-4245-8547-2C61C6B7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D474-15D0-4BC2-970F-3E0842B9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B29F-16F5-4C51-8830-48CB76AC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DDC4-D925-4BB4-B421-C3E91D80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C22B-FEA0-495C-AA1B-ED8F3D2E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9F60-A762-403B-9821-4BCEC3B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CBF9-96F5-4B48-A746-F1917170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B7A4-37C4-4F83-B56B-115888C6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C012-F680-40DD-8D42-BDB29540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EA89-BF4F-42AE-96CF-8B46053C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3A9C1-CEBA-475F-926A-49F20DDC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F39-128E-4542-BAEE-1BBADA4F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08B4-BE4D-44C6-992A-F445A432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4E0E-D4AB-4AF2-AB4D-7ACAC308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87FB5-6012-4659-B5A4-3BB4102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CF42A-C59E-470F-AB22-CEDC53DB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9FA4C-71F8-4E33-80F1-685C71F4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6A888-773E-4FBB-BB41-97385C96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E0E9-A33E-4CF1-A019-2C867206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AE8D-0C33-4D0E-8188-374D9A0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95B7C-FC98-42D0-9778-459979E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24D51-E471-44BB-B09F-F9F3E142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F8E-E741-4353-B49E-8DF8F7A7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AC45-8F51-4244-93A0-4BDB8BDA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731B-950F-4626-849B-D29BE80C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0601F-C626-4CEC-9A4B-8629A964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92AE-ADE2-432E-A4CE-E17C0CB1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CF8FC-9A3D-4F1A-9D2F-8A22B83A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51C4-F7EC-4892-A1BC-D7F29E1C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34C7F-8071-49EA-8A08-E40E23C9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1944-68E6-4A03-810F-FDEA72A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4A15C-D9D8-49C3-A576-DE206136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CF85C-33FE-49DE-B1B2-FF26091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873-30B2-4E14-9807-92C7871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97609-0B11-44E3-9D7E-1299E456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C6794-922E-4355-B034-61DCEA05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32298-0AC4-4864-8A7A-F28209BD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CD7B-C0E5-49E0-90EC-205D8DD9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C100E-169E-463D-91B0-E86ED0DB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700EC-017A-44E2-B50E-E0B3F12E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19694-5DF5-4E64-B0C4-87C8BD85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038D5-F5A6-43F8-8C2F-C55D259B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7230-2754-4289-89F9-27A62324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A4AD4-C1A9-4E08-9176-C9D00CA3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E45-7393-4DF9-8C35-CD9523E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803E2-FF67-4028-9C67-9F65DD2D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31D7C-FF48-4713-8A07-0E2C9108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80490-D6AB-4E69-B3B0-AE07F41E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83BE-00AC-4CB8-B98B-02035C23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D3B0E-C092-4C27-A771-87D6CA94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12569-7575-4D44-B5F8-3529457E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F3C61-0629-41F7-8EA9-2948953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5AC4B-9449-4D13-AE25-3528E9A8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C3A2B-8641-44C8-B9B5-722C5A69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24A9-1099-4ACC-8BAA-DFF4C998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B5D-7311-4B4F-9695-79C3AA3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0B456-7BB5-46BF-9D4D-37CDCBC7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87313-2969-4D14-9297-4541152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22024-2407-4089-BDB3-2C2EE120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CD334-BF8B-43AE-B144-48A9182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7C3B6-DD26-4F86-AEE0-5567EECA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A1704-FA6F-4FA8-BC5B-95E46893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A7F1B-02BB-4F55-906A-4B31DFFA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6DB23-F304-49ED-9311-A2D0AB69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6B68F-E4AE-4C76-8C2F-4A6049E2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6B13E-902B-4DF0-A4E9-9862363C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1E0-929C-4650-976F-8BAAFCE9223C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A9D3-4CB0-4DD5-984D-48EFC9DEBFD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5C02-BB18-4E53-B47F-7BE5FDF43EAF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4FCD-EB16-4041-A1D2-435EF2BC3E86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Forme 9"/>
          <p:cNvSpPr/>
          <p:nvPr/>
        </p:nvSpPr>
        <p:spPr>
          <a:xfrm rot="16200000">
            <a:off x="7553880" y="5254920"/>
            <a:ext cx="18925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97527"/>
              </a:gs>
              <a:gs pos="100000">
                <a:srgbClr val="f9df8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8522-154E-4A3A-A367-DC73516D42C4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98EE-A18B-460B-AE2F-0EB90E4DC0A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FB2D-47D4-4066-B581-6F8CB1DF27DC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E9D8-AA57-403F-9722-DA70978A1C9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Forme 6"/>
          <p:cNvSpPr/>
          <p:nvPr/>
        </p:nvSpPr>
        <p:spPr>
          <a:xfrm flipV="1" rot="5400000">
            <a:off x="7554240" y="310320"/>
            <a:ext cx="18921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97527"/>
              </a:gs>
              <a:gs pos="100000">
                <a:srgbClr val="f9df8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riangle rectangle 7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necteur droit 8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nnecteur droit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0C4D-B98D-448A-BEE6-C93A948ADB91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9802-78EC-4B1E-95EC-CC4AEDD11C45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8D2A-AF05-4CA2-A548-5245A5458883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1C42-49FB-4211-851B-14811972212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310-1AF8-49DD-98A5-82CAD8FA01B2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FFC4-C3CD-434B-8197-3F73605FBDB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3DA6-215F-4E7C-8C75-19FC90134495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FAF9-9804-4DD2-B6EF-DCD405B0309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riangle rectangle 6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Connecteur droit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0bfc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Connecteur droit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7c6c8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461F-97C2-4A13-B543-6BAC7A0A6F46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5D6-062D-4629-A645-CA627CE93E4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454f"/>
            </a:gs>
            <a:gs pos="100000">
              <a:srgbClr val="8c87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e9d17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9d17f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ceb966"/>
              </a:buClr>
              <a:buSzPct val="95000"/>
              <a:buFont typeface="Verdana"/>
              <a:buChar char="›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ceb966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dccea0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B3AB-3579-4174-9C23-DA2469167EF6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9884-5823-4264-9CDD-F290117F804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633840" y="1700280"/>
            <a:ext cx="51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ceb966"/>
                </a:solidFill>
                <a:latin typeface="Arial"/>
              </a:rPr>
              <a:t>PRESENTATION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17080" y="24210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7448760" cy="13654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1:11:20Z</dcterms:created>
  <dc:creator>Ric</dc:creator>
  <dc:description/>
  <dc:language>en-US</dc:language>
  <cp:lastModifiedBy>Mediac</cp:lastModifiedBy>
  <dcterms:modified xsi:type="dcterms:W3CDTF">2006-08-16T02:28:14Z</dcterms:modified>
  <cp:revision>15</cp:revision>
  <dc:subject/>
  <dc:title>PRESENTATION NAME</dc:title>
</cp:coreProperties>
</file>