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7BC0-E847-4D18-BDBE-105C8516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D44-E631-4CB9-A848-F124C561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AB49-701A-463E-A219-CF6CAE24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2FAC-3057-4BA5-A33E-F12CA894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C84-AED7-4FBC-BB16-B6D5DFC4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D03-35A8-4C4B-B75A-ED98C26E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1BA-B033-46D7-8437-47BAEBAB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0C40-EB4B-492A-8BA6-9D655E0A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1B1-25E4-4564-8B27-E2D123CD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D9C-F66D-4809-988A-1716B406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7C6C-F6FB-4FEF-85E2-D3631397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A2E0-F984-4147-A8C3-485148E9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3712-33B8-4F6D-9B3F-7231F4074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8720" y="1457280"/>
            <a:ext cx="4606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Presentation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28320" y="2301480"/>
            <a:ext cx="38480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mpany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26920" y="764640"/>
            <a:ext cx="47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59280" y="2060640"/>
            <a:ext cx="4968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22:20:02Z</dcterms:created>
  <dc:creator>Power</dc:creator>
  <dc:description/>
  <dc:language>en-US</dc:language>
  <cp:lastModifiedBy>Power</cp:lastModifiedBy>
  <dcterms:modified xsi:type="dcterms:W3CDTF">2006-06-08T23:22:17Z</dcterms:modified>
  <cp:revision>4</cp:revision>
  <dc:subject/>
  <dc:title>Presentation Name</dc:title>
</cp:coreProperties>
</file>