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787-0F48-4D91-A591-6A4DFCA8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FD1-36A3-4CF6-8AB8-6797F638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ADEB4-235F-4C16-BF2C-7105B1CF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E8598-D8C0-43CA-B067-BCFA22F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33950-BA2F-49A9-B175-3045E6E2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1E19-96F5-4740-8D6C-BFFA3B4A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3B38-63BF-4F18-A3FE-86C880A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CD671-5A38-47DA-A6A6-B9CB503C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F81FF-498C-4AE4-91FD-9EE2B56E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BBE3-EEC0-428D-ABDA-9F658474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AD9D9-99B0-4B51-BFAA-2A11AADD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2C7C4-CB6E-4026-A49D-4042DC37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2DD-90BF-40CB-9234-0910F7C9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BF6FC-2F9C-4991-B977-4990254F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62E75-7D85-43F8-B21C-95CA410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5B5B5-5706-438D-90EE-192EE19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F1791-44B2-4C07-B5A8-0BB3B85E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37236-00AF-4BFB-A2BF-1EC3DF8F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6C67D-6546-4E80-96D4-488FA04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C39EC-ABB8-49EE-8EFD-055FF552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642FA-CE1A-42E1-9DC4-D1CB1B4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9AAC1-E51E-454C-A8DF-904BFEB4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71BCD-09B2-4AB8-8BBC-7D9C26C1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BDC-632A-4728-BAB0-B6823BD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501E6-B7E0-4F00-AAE7-A1606EFC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DC70-D699-43BC-B4A4-51C4BDA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63ED-AF51-434D-B441-25A12DF4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30A-31A6-4449-A948-3794F8BC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03A-A7DC-4F85-81EA-DBF76B7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BF5-B09B-4E37-9A8F-4F6D0A73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DB18-D1A1-4D75-98D0-BD16703D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C6EA-1D48-479E-9FFD-E0A757F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421-0415-4CD2-B3C3-3AB9033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8C1-9B18-4747-8043-CEE2E061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C863-D9F7-4D9B-9615-0BDE3DF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5D4-8C82-4916-B1F4-B1B4A1A9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D502-E3FF-4E93-8C85-14F2A6B4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7356-3320-45B4-A602-AEED49C2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5261-1098-4610-98F4-FB485D99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DBB6-4142-4648-94F9-D151A3F1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F351D-D762-4556-8309-9D6B0BC9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6363-7F8C-4656-8A90-84D5DA53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BB15-B6F3-4F9B-BAF5-0606EC8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B28-46D7-48BB-9999-1738A64F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F15B-367C-47CD-9BB6-063E9BD0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E9F7-BCFA-49FA-9ABC-DA19DA81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3770-7B34-49DC-8808-C5DBA5B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FF505-EDD9-4404-B06A-3388F72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C7863-944F-4EE6-99AD-E5C6EFC0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658B-F755-407F-809B-0A8C0AB3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D747-2513-4737-9483-41D7D468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5175F-C90C-471D-AC11-57FBCC99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0C89-33FF-428D-B368-7F327200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5E10-D5C3-4157-961B-F623ECC6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578-DFF6-4BE5-BFF7-18F46BA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1126F-EF1A-456D-8ED9-37A46F3A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531F-E2F5-42EE-B954-BE1998E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1902-F0B3-477F-BC99-038A235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D0A7-BF58-4289-AEC0-A2C58E9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8364-1FEB-436B-9E65-1483CCE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1BA7-EF50-47FB-AD89-DD5D860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3254-0D09-424C-819B-EA76AA35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F940-7121-472E-AB31-92C864AA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8FDB-4E7D-403A-8659-0175291F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CA85-0C8A-4173-9B1D-CDD853CE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A18-2DCF-4732-AA49-CC8923C3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6DD7-8463-45C7-838F-25A848CB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3CE5-54F0-4F1F-9220-31BCD8B4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70B1-3B65-4908-A6AC-5499F615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BF869-9297-4E4F-B17C-99D386A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C313E-193A-427E-9DC1-F749B99F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93A4-6719-45B7-BAAD-063C0DD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2F409-1B5E-4C4F-AF6F-8B02987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A969-5B79-4902-8411-5339F48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FF4D-B21B-4614-94AF-9DA08622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B3DC-0E16-4815-B973-A1334DB6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345-6E11-4826-91E4-FA4D439E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EE2F-98ED-48AB-91F0-ED1DC4D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AC74-9BD1-40A3-B834-BB7FF655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AE18-5D6B-49E3-977B-0C4FFBA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D3E1-F56C-49D0-A9F6-A87F7A0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8421A-A2DE-4328-B6D6-80588C6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5D9EA-2752-4E74-A291-DFFC1837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CF39-1AD4-4292-9FE2-37FFA61D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0A313-3A2C-4A50-8A87-27655964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5B42D-0A13-40B0-A86C-61E1FAB7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F87B2-28BC-427D-9EE0-07910301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C19-0B4F-47A3-8BA0-3156060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8E8C5-4588-4960-82D8-F80BB220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6290E-BFDC-4633-80DD-02293A2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1D042-1A66-49F6-BB6A-02965C01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62926-9CD0-4629-B432-1B234A3E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F759E-4DB5-48E2-804A-3D16893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3D85-347E-4C00-964C-4B65C2B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DA5F6-D58B-4D6A-9B2A-21CEDCDA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B58E-8859-43CF-BD2F-049A306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E30F-8B1C-48FC-92C4-4EA388AC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92428-F796-4A36-B3A7-B45EE82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455-A7CD-41B3-B57D-CF19A33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01FE-05E2-44FF-8570-B4CC656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5C40B-35E8-462C-9EA0-6EB19D09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A9C4-3B05-426B-AF7F-B7FCE479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29EF-821A-4EB1-B574-211CCEBD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3D03-FF50-4A7F-A1D8-F9676E06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23132-75A3-42AC-A711-F82CC00E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0D36-7124-48C5-9F14-0561E427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09C1-4655-4BA3-84BE-461F33B0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E7C70-3974-4A7C-ABE6-0D05B9DB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F60C-E882-4461-AAE7-BBA6D489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C0C-528F-490D-B9F4-827738F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11FC9-9CCB-4B57-884A-0D07D7F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39CE-2266-4A64-95C8-411407F9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E47E-D545-4091-843A-E3FD061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A8D50-100A-4AD0-8901-7988DE8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604E7-0F42-49B8-9675-313B46F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ABFF-2E9C-494F-955B-B4BB1023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1281-D9B9-4BF9-AEF9-CB42D690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86135-D657-4658-A550-4B77DF9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4BA35-E4A7-454C-80C1-961FF00A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DFC35-4C45-4E60-8B56-E45A192C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2CDF-4A97-4BE8-8819-5AEDA9EC692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B9F-B375-45D9-AA7E-716B49063F9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DD0-4C26-458A-B7BF-217E0BEE6E4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0483-2CBD-45F4-8416-B07D80D2060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33BB-0FF1-4195-A71B-1AD2F912E54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9C6-A707-4164-9A47-FEBDEF48C4D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C22-FF79-4C4A-A59F-F087A9C19CA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3A97-DC91-460B-A4C3-BC24D3DD525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1DA7-7876-4C97-AAF5-44E383B1F09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9B9-ABFA-42ED-800B-0BCB05BE796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Rectangle 20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ZoneTexte 4"/>
          <p:cNvSpPr/>
          <p:nvPr/>
        </p:nvSpPr>
        <p:spPr>
          <a:xfrm>
            <a:off x="468000" y="585792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808080"/>
                </a:solidFill>
                <a:latin typeface="Arial"/>
              </a:rPr>
              <a:t>PRESENTATIO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ZoneTexte 5"/>
          <p:cNvSpPr/>
          <p:nvPr/>
        </p:nvSpPr>
        <p:spPr>
          <a:xfrm>
            <a:off x="722880" y="628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80808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Rectangle 30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ZoneTexte 5"/>
          <p:cNvSpPr/>
          <p:nvPr/>
        </p:nvSpPr>
        <p:spPr>
          <a:xfrm>
            <a:off x="857160" y="1628640"/>
            <a:ext cx="7286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6"/>
          <p:cNvSpPr/>
          <p:nvPr/>
        </p:nvSpPr>
        <p:spPr>
          <a:xfrm>
            <a:off x="4005720" y="7142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1:32:53Z</dcterms:created>
  <dc:creator>Power</dc:creator>
  <dc:description/>
  <dc:language>en-US</dc:language>
  <cp:lastModifiedBy>Ric</cp:lastModifiedBy>
  <dcterms:modified xsi:type="dcterms:W3CDTF">2006-07-19T15:19:28Z</dcterms:modified>
  <cp:revision>2</cp:revision>
  <dc:subject/>
  <dc:title>Diapositive 1</dc:title>
</cp:coreProperties>
</file>