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4EF-4A8F-4B23-8A07-4354A15B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9C8-4D3B-489A-A04D-6F045E0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07682-C82A-4C72-A86C-624DA982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D355E-D7D8-4E06-88D5-B2EEC67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192F9-3EA3-4245-81EF-44694E2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9E90-776A-497B-92FB-F62A798D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D5047-42D2-4264-83BE-F8D1544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93F73-4EC6-4FC2-99A9-D87EAD2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DE78C-1956-4FF3-9D45-02028F24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03B36-DD2C-4A60-A621-E493A14F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3F9C7-50C9-4B01-8BED-2334E016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332F14-E830-407D-854A-1B3CE893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8CA-E766-4E2D-BE51-AB4AB75D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5EC88-D831-4C2C-9DA7-8AC494B4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4EFD22-8D5E-40A2-A93D-4D1C716B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E32F3-68E8-4826-8735-C357C3F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B7368C-CF8E-4225-9071-A368337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A894F3-EBE7-4073-94AC-84CD079F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CEDD04-CEF6-4868-8AE4-6BD1622F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F95C9-41E1-4128-A9D8-7F5712B8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9D59F8-DF8C-4452-BFBD-ED70F11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FF7CAB-F72D-4427-8D71-28482C51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AE438-53CF-407A-84DA-C0D7595D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460-84E1-4260-A468-4CAB2C5D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97C159-C47B-42A9-9784-1E9CBFA8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129-7D84-446C-BD8B-E998192D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8C72-A582-4792-B401-52D41CB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AC6-0561-462C-A9DD-27A41B4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8EDA-7D44-4507-A0FC-FD07D2C1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A2E2-F036-4D27-B064-EEAAC53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9BA9-0C7A-4BCB-B8FB-6065973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28FF-2FB0-4159-9979-1A04E8E1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F45-A314-4D68-A92D-C7CBB4C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260C-F408-4385-B396-2469423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D1A4-4CF8-4E6B-A1B1-AE73ED6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B0F1-E16C-44DA-A32A-C04D0E02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0634-DE52-457C-B63A-99D8C2EB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DB5-BF06-41B0-AD36-848B3ACF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B62F-3844-4990-8F13-49E3CB7E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A92EB-23A4-46B7-A42C-0F6E4454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C55F-4083-4F79-883C-6EE38BD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ED16-82B5-458E-8A36-468F83D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A1DB-CE65-40CE-9B1F-BB260645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0D7-DF0C-40C4-8F81-CDC3D535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2FC3-8230-4EBA-A336-01F3996C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D3A8-16FF-4482-B4C4-0DB30BB0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7E4C-73A2-4012-9CF6-889690B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852F-A2A8-49FC-8AFE-DE37CF7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C343-B13B-4D0E-8F19-1FE69E1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F3704-36FA-4355-AA65-45133406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73A1-FCE6-4935-A2FB-F89B3501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4EB4E-F451-4BA8-B207-F5C2C7CC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4D5FA-BE12-4A23-91DB-A192553F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76CAB-DC0D-4F63-A695-3C4A0B63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45C-C869-43AD-AE6A-CA726156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ADED1-6835-4A52-8165-D4BE56D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E4D02-669B-464F-9466-3A81D25E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43F63-5194-46BA-BDED-3E818655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8060C-5FF7-457F-BEC0-DF0917C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C493C-DCA2-4A6E-A400-DB1895E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1AA10-CF92-43E9-8A30-39F19F65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67BD0-86B9-438C-BE6E-024D9259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98D55-867D-4B5C-80B7-8592782E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EB016-58D2-40F2-8163-A7EC1596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EB617-4BAF-43FF-9F22-AE45D544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194-3D79-4FE4-B604-9A1E2CF4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609AE-179E-4FA2-BB88-19CEA18D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52FD1-28F0-444A-B451-A55D8747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7C404-5552-4B47-BF44-5891217E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D966E-B636-4FD3-A462-B38DD493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3EB48-8895-4090-A44B-6D53A360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ACB52-9893-4CC8-BA06-ACAC5877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000E4-3BD8-4FF4-83D1-82F70A7D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33D75-A85F-4049-A36B-DB948BDB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FA7C9-FE5E-42F3-A7B0-0F5E3608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24D8E-5A81-4607-BC41-EFB7FC3C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B9C-D042-4C9B-B686-5DA1EF6B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F94C3-1BC8-49DD-8C4F-36A0A1D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16564-994A-4E20-A651-20258F6B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51A2E-4491-431C-9AEF-F05CE575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D3B7E-C126-4FBA-973D-2E510172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DAFB9-84F8-4037-9D36-7ADD272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023D5-C86E-43B6-BB81-90EFDEA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2A7D8-AA82-466B-BFEE-FB8C5199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2855D-0CEC-491B-8A45-E04C33E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ADB17-0DA4-4AFA-BD16-6E35BDA2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207FE9-80FF-4548-AE25-D70DC88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B0C-EB27-425D-BFA9-D5A4C8DE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75B92-7BC1-41C2-AD3D-A1A506CF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53705-074F-452D-97F9-1F4129EA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A1F80-D447-4370-AFCD-AB116BF6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4B47-6AAB-405F-9C35-566E2CCE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981E-2E4B-4C80-A75A-F66BF21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DEDB-ACA0-4760-B917-282A5F99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13FD0-F03D-4AF6-8419-A03E0D52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13EAC-C4FC-4446-9E35-D217DB74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DDA9-5C08-437B-B8B3-7018CFC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5ED17-DCAD-4232-8C1B-03053E0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954-E096-4048-8110-B9AAA18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A2A43-AE8A-4673-AC59-D3179B85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03334-27BF-48A6-92E1-0D426647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C9F78-9294-40E6-9B4E-ECE0E4AB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1B8D6-D432-46CA-9DEE-9C37653E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E0CBB-15BD-4F15-9E5A-0867FC58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08B2-B81D-47E2-8F37-57EC9B42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D365E-B191-422D-8AF9-F7D358D4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8B324-1BB3-4A9C-A370-0698AD4F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B5F0D-3D9F-4ED4-BE7E-CA2E807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E231-F896-4D28-B950-58A07995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E69-0D8A-4699-8804-3898FED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33CB9-03BE-475D-8644-2BB29AE7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FED49-335A-4634-B828-2924282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444A-83A2-4C5B-B07B-3FA537E2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7E408-F79E-4384-B360-B9067BE8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347B3-1D98-4BE9-A020-4A072853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0FCF9-9158-4EFE-8315-560F745E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1172-78E6-4918-82A3-A7DDC144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C84F-8FB7-4BDA-8E26-499D4CE6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A9F72-2AD7-4E2F-AADB-02A8B352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E599D-219E-4D1C-9968-B43BFEA3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541-2CB9-4228-A779-FA73B2833993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A2B-62C4-4E3A-89C8-3DD3CAEF8FA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352-B6FE-484D-BA45-28D5FD4E095E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CFD3-3DCB-452B-BE11-90C11DF0698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20E-8819-4C89-8331-6A4D2A587AEA}" type="datetime">
              <a:rPr b="0" lang="en-US" sz="14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C0E7-70AF-4D9A-BF36-6DD67B0CF940}" type="slidenum">
              <a:rPr b="1" lang="en-US" sz="1400" spc="-1" strike="noStrike">
                <a:solidFill>
                  <a:srgbClr val="eaebde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58C7-6649-49E2-8177-C282B39DE1FD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1D5-4A2D-425A-9C5A-4D51D22306D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CDF1-267C-4338-9490-2B518ABE8AB1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C1C-4A3B-43F9-A5AE-F42E2E0C1B9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80D-ACC9-482B-AA14-BFC6B2901699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864-3F45-42AB-8D40-B5957EB879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2D3-C974-470E-B078-203B20147B35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EBF3-E883-4521-A524-F9935CED78A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5901-7CE1-4793-892D-76781B4A39F5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DC6-7CD8-41AD-A8A3-1D6053C82F7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26D-5471-42FC-B910-9CD7F7D7F39D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0386-5322-42E6-99B8-043236C280CF}" type="slidenum">
              <a:rPr b="1" lang="en-US" sz="1400" spc="-1" strike="noStrike">
                <a:solidFill>
                  <a:srgbClr val="676a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804-E373-4AFE-A59F-E325A9F03158}" type="datetime">
              <a:rPr b="0" lang="en-US" sz="1400" spc="-1" strike="noStrike">
                <a:solidFill>
                  <a:srgbClr val="676a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CCFE-DECC-4354-BA5C-45F919E123D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23960" y="6062760"/>
            <a:ext cx="64771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Tw Cen MT"/>
              </a:rPr>
              <a:t>PRESENTATION NAME</a:t>
            </a:r>
            <a:endParaRPr b="0" lang="en-US" sz="3600" spc="-1" strike="noStrike">
              <a:solidFill>
                <a:srgbClr val="eaebde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76a55"/>
                </a:solidFill>
                <a:latin typeface="Tw Cen MT"/>
              </a:rPr>
              <a:t>Presentation Title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72a376"/>
                </a:solidFill>
                <a:latin typeface="Tw Cen MT"/>
              </a:rPr>
              <a:t>Cont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20:20:01Z</dcterms:created>
  <dc:creator>Ric</dc:creator>
  <dc:description/>
  <dc:language>en-US</dc:language>
  <cp:lastModifiedBy>Mediac</cp:lastModifiedBy>
  <dcterms:modified xsi:type="dcterms:W3CDTF">2006-07-22T20:35:45Z</dcterms:modified>
  <cp:revision>3</cp:revision>
  <dc:subject/>
  <dc:title>PRESENTATION NAME</dc:title>
</cp:coreProperties>
</file>