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597-D325-468D-A3CA-5ADF0F20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2E6-5914-4457-AF43-F7920E9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DA4-698F-431D-97AA-69ECB65D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3A3-4F15-43A2-A69F-0CBE2F0F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3CAA-E585-4040-920D-66452C0E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756D-F93C-4664-BEED-4476F5A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C5F-F036-4443-8F3A-9D61476F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7FE-D233-46CB-A98A-216B7B11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23F1-0FD0-4E4D-AFD0-A5481EA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F9AB-842B-4B44-A570-D69E5282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AB4-8742-4952-B4AB-0CE8FC93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1B0-561B-46AD-9FEB-D61D6703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D6E2-AABD-4368-9242-A773794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43CB-62EC-451A-86AC-5667DD7F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9922-1FA7-416C-AF96-672BC226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9E74-7B31-45D0-915B-3E652F1A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ECC5-980E-4147-B3FC-86ECC1D7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2A53-71BB-4F59-8B1B-451CAB9C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3D97-2DCE-44FF-A21D-72F50AB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F891-1461-4213-9939-DBF5577B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286A-5AA1-42A5-8FB4-574A681B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547C-5FEC-430D-8406-2469C66E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53B-659B-41A6-8F95-BB198790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381C-3721-4D2D-8975-05F8AEB7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9339-3EF6-454A-8327-080666EB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E2A9-FA36-4B05-85D6-954FF39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B7AC5-B068-40EB-97AF-592DB12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B52F-8DBE-4C99-94BF-71AB310E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5324-02A2-421B-94EB-F25D82B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1284-F5EA-4104-98C3-B0F434AB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33F8-B0A4-48FD-840A-1CA30220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4986-7287-40FF-889C-A878983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88C2-5F83-4380-8D9C-0D24ADF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EB4-3B13-4313-8AEA-5B4921F6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ED6C-5FB7-4FFC-BF6E-6D1341CF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3739-11D2-4CF8-B34C-40F19926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7759-232B-4402-AE3B-C8A903B0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45AA-AFA4-4742-9DB4-1AE7162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863A-25E8-4096-BEBB-D052EB1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B6DF4-1D79-4797-9BAD-FB1FB36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8BB9-67C3-4B8C-9A50-10F9918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DDB5-E494-4931-A6BD-F985B84F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D0BC2-4B89-441B-84A5-612B66CE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2489-93B4-42C2-A66C-95367744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935-3B5B-4700-955A-C88FCFC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2635-B527-41E4-AE3B-A2B46B5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14BC-26ED-49FB-AC37-B7F1384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AACB-14A8-4A6E-9C5B-5F5BE211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5D996-5C23-40B7-95D1-FE014BE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9E14-6E36-46F8-8EE3-ECE05BAD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4E6F-CF4A-471B-848D-19331D06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7D0DB-76BE-42BE-A90D-737867C2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90E8-B249-44A3-9DAB-9047192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6B57-ABC0-4A33-9862-D9E54E2F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A3D6-B7D7-47D6-86CF-EF5AF6D7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4E4-9EF6-42F3-A865-797FF982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C05C7-7EE4-483A-AF07-33296E0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B3EB-2A03-4E6D-88EE-C26C4C5D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49E3F-D95A-44E0-B7A9-790C700D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998C-0EF7-45E5-99E0-1B515604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F67C0-FA22-4902-8310-7E8ED63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F31D-6A87-4ED6-A112-2107EF0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A388-0635-4570-BC71-3EDEB2DA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7B05-7EE4-4C13-8873-7C87C5D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A2378-C40F-4C9A-8B54-0D62D0D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E541-D2C3-4CDE-AB8D-61CE457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45C-BD26-49CD-A58F-E66B9DA4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D2E5-F765-4EF3-9F3A-1701E29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210A-C41B-4E1D-8888-0EDE70CA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AA02-8A90-4F04-A347-2D40CDAA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24193-1B2E-4C60-94D1-0AAE190E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31A0-8709-4C53-8381-6097C94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0948-27D5-4F91-9693-58C61F8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21028-6B9C-4E46-ABD0-EC653E1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14FD-7971-4D25-B100-7A796DE1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BAEB-19BB-4845-A7CB-1202713A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EEEE-9FEB-4F09-A536-B9D401B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A85-FA29-4BA5-B56F-4918855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8A30-0C77-41B9-88F8-8117A03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D027-F62E-4800-BC1B-66D5BEB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E6FA4-68C2-4640-949C-CE97FD8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BC81-7274-4DFF-BE9B-502396C1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3975-DDFB-476D-96E5-0EBD5E5A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5686-127B-45E4-B267-FC6B20EE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D72E-2647-4E84-802E-0B6357B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D030-6AF0-4983-AEA2-672E8983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D694-E4CC-4293-A8AB-FC6BDFB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8AE8-3FF5-49BC-9B97-53915E3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FDF-ADF6-4BB2-BAAD-93BB429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5E6F-7ACC-4242-A671-C5DE83D9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7220-DEA4-4694-94AE-0A10F21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4613-13AD-40FC-AB25-1C96C9E9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7156-53A5-406B-883E-D9EB242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2F04-AD45-4E00-943E-4B7896C4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B1D5-F92A-4DCC-8E56-57318C22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16A56-5316-4A54-B7F3-A1E0370B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FCD-BDCF-4804-93CD-D2657CD3E69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9C64-7584-41F7-B26D-E14BC657244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9D00-557A-4B17-B517-127DD88BC73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033-A879-41B2-97ED-19DE42939B7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C4C-7AC9-4C97-B5E9-889A31DBFCE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A53D-0C58-44E7-A8FF-A7028CFE80E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A78-2DDF-4610-9A18-BCC7C2AD109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D7B-5785-4B0C-905E-94D3B9CE144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B226-8817-4D2D-A3C1-8AFBEDBFECA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EA0-EDE7-439B-947D-4D7A498D87C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7499-ADCD-4C99-B0E9-31BE4A805FF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4667-2EE5-4180-B706-9C87DB380E4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1CF-ED0D-4D44-B849-7A04A2DD3B7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A145-1F36-4F21-BFC3-4D6593AE23B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66C-7D0F-4259-ABAD-3AAF1464B98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0040" y="604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0040" y="174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20760"/>
            <a:ext cx="83296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545920"/>
            <a:ext cx="83296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64a2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64a2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64a2"/>
                </a:solidFill>
                <a:latin typeface="Calibri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0:47:23Z</dcterms:created>
  <dc:creator>Ric</dc:creator>
  <dc:description/>
  <dc:language>en-US</dc:language>
  <cp:lastModifiedBy>Ric</cp:lastModifiedBy>
  <dcterms:modified xsi:type="dcterms:W3CDTF">2006-07-05T14:30:05Z</dcterms:modified>
  <cp:revision>26</cp:revision>
  <dc:subject/>
  <dc:title>Presentation Name</dc:title>
</cp:coreProperties>
</file>