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B66-2ED7-4DE8-B768-DD80E5C4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940-9D8B-4E89-98D0-48AA16D3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FA17D-4438-4715-863F-34746D94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F6148-EB07-4283-9EF0-3BC6726B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8C195-F69D-4EC0-9907-1DDDF341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C7E4A-B919-431F-A9A7-BB171281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90768-9DC1-4168-B3A3-AF46CD8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F90E4-B8B5-453D-8CD7-204A419D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31349-110B-40E1-9512-D2FF6C9F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811C0-1EDE-43E2-8622-6F8867BA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58C13-CD52-4C33-AB05-22F0B06B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96EBB-2FAF-4270-9234-F24A86B3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805-FACA-423B-A7E8-E8324E78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16806-B4D9-434E-AD40-53515BAF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7745A-E54A-4C35-9705-0B1A6D19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C24C9-438B-4788-A4BE-B83CB6DB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23261-951F-432C-8739-01366AD6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DC346-57B0-4490-AA9E-17FA42D9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AB118-35AB-4BC6-80F2-47AA88C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96C44-F595-455A-872F-C446305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EDC71-05F5-4A2D-A644-26CC33DB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FC68E-17CF-4532-8B29-5D156BB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A1033-9313-4E4F-8F23-DCDD0D37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A90-414A-43D9-BC8C-C01FD72D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BAD48-A722-4D69-97C1-E77BDC41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DC7B-FA1C-43ED-89B2-53A532E0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2100-0CAE-4F7B-BBD1-67AA0596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AD21-4A13-43D4-B7FE-E278D7CB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97A6-405B-40CD-8476-5985A3C1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B8E8-BC54-4C5A-8316-5700F83E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71EF-B729-44E1-8B39-9696FA8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0FE6-547C-4255-B674-33E1FD49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FCC-584D-430D-8A23-8CD44200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1102-1981-44E5-9EED-22701F51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FCF0-69BE-4432-82DF-4A51F66C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E2AA-ED10-4ED8-B294-F914A8D0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FE6C-02D0-48C8-AEB7-E3E7FA9A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A352-05CE-4A82-ABEB-EE782C95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22CB-0A6D-401A-AF7E-96DE4754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6446-EF8C-4B64-BEC7-3D4A40D9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7AF2-64F2-4DC3-BF85-B8C5ED8E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081C-E533-450D-BAAD-559C4B9F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83B68-8F73-48AA-9619-2D1665FE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87B-F55B-4CD8-AAA1-ABE8227C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85F62-4EF9-4CF4-A4B6-3BD50D2E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E619-1B60-4057-8FEC-E4175111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A471A-4757-46A2-8A15-B79643BE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E078-FA2F-4ECC-BD82-99C05FB8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329F-10F5-4AC3-8688-AFBF5B7A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2FDC-BE8B-4946-9B0A-83308312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7C27-CC20-401E-8C41-F256D671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7455-93A4-49C4-A15D-84444532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1258-AEB7-4913-BD14-0B64F8D0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80AE-912D-43FD-961B-C50153BF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FC5-E114-48D1-A4F7-C58EB66E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4118-F61E-418A-A777-CBCCDC56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BEE3-3D1D-4686-A0D5-74FD7A44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3BDA-5254-4C7C-8364-CA1996D9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97AC3-D608-42B6-B053-B076E6FD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58BDA-AC4E-4095-9A32-ECB9CA6F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8C19-2E27-43C7-B2DA-04B09857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0E22A-DA32-4044-BD1F-58154CB6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F0E52-8CFC-49C1-82F2-1EEC3CCE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915EE-670C-4ACA-A596-EA7D5BD1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6A5A5-1212-4678-9386-DFEB40F5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7A9-5201-4E06-BF78-08ADA097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CB273-0134-45D0-892F-612FD598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66D69-E216-4456-8D2B-94E4FF50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8C5B-9E5B-47F3-B2F0-22BB6243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216BD-9513-406D-8B6F-D5C48CA1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9407A-6000-4A46-A76A-25A4B83C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34F5A-7299-4187-B036-B8330FB1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6837-7BA7-4B31-851C-73CB013B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8ABDA-DFCF-4D28-8486-10E94A69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4DE5-2D08-4707-B851-8121FF6D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1022C-566E-4581-B802-21CCCD4E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A53-A30C-4530-A2D0-2E34FEDB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56BFD-194D-4D8F-9151-607AD773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E4446-97E4-47AF-8B57-45D31B11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8C077-EADD-4F70-AB74-9CC43B43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B8CF0-5733-4116-A02D-D85FCEDA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E01EE-E394-46B1-9B80-E5BCA2A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3500F-F6AC-4243-A203-ECCCAEA5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C58E9-CEDD-4B16-A513-D22712A9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C5D31-F3FE-48CF-BB8D-0BE68298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40980-3FFF-49FE-8299-757D8499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38E06-9420-4765-A53C-0F3469DE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A7E-138A-4E13-8EF5-274D1181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2CC66-2CE0-49AA-B919-F9632599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6ECF8-64F9-43DE-BBE2-779BB91B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13E84-D719-4F92-8A53-87DDBA6B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458F4-C003-47B8-8A5E-E35E96BD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47DF-DF6E-476F-9B05-BAF85770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F5BA3-4BDE-49A2-AEEA-C217601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DE822-B5EB-4472-A2FD-5EB57349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0ECC7-0CF5-4FB6-8969-D1DB9AB7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1F0A8-4365-476C-9B3E-FFEFCD0B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3EE0C-00BA-4766-A1D3-E5E71419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5A3-3909-4F0E-AF54-C30FFC4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2ECDC-D90D-4507-A29E-7D758FD4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FA56D-F977-4FAD-94A0-55439C8B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DF99E-EDC8-47F3-A062-2E0D9720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528D1-808C-4728-A1A2-83CD7BD6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D7F0-5BEB-4C7B-96D3-BC65F4F1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F3BFE-5975-4434-BB6C-65C913A3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3363D-51C3-42BB-89F6-DF5FDCED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FEC38-064F-4C37-B878-FE396BAB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69261-4447-486B-88DA-6559F23D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475E0-2972-48A1-97D2-11924336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C01-D506-4CDB-89EA-A209840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-92160" algn="ctr"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33D31-75AD-4E6F-986A-7CBB5B85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BC3B7-97FE-4EA1-9A0D-D4C68510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2FA59-9B02-46B8-9A3E-8B980348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65E64-2574-41C0-9FBA-5B927AAF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6DA9C-6C82-4D18-816D-E614B240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68155-791F-45A8-80F3-362BB1F9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B8AD7-6D04-4AE9-9635-E0F7DE27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7C092-6B48-40E8-A077-14D70B6A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2160" indent="0" algn="ctr">
              <a:buNone/>
              <a:tabLst>
                <a:tab algn="l" pos="0"/>
              </a:tabLst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62CBC-178A-4792-B9E0-A0BB8487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</a:pP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88107-8C63-425C-85A5-691E7EF4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2452-58F5-4B70-BDB3-204AE8D0BEF7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46C-33C8-4475-8C69-6A70676837A0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417" name="Forme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rme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Triangle rectangle 10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423" name="Chevron 12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hevron 13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3F90-4ECE-4432-99FA-DEAA3E81073D}" type="datetime2">
              <a:rPr b="0" lang="en-US" sz="1000" spc="-1" strike="noStrike">
                <a:solidFill>
                  <a:srgbClr val="ffffff"/>
                </a:solidFill>
                <a:latin typeface="Eras Medium ITC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ACEA-0575-4CAE-931A-62AADD51824E}" type="slidenum">
              <a:rPr b="0" lang="en-US" sz="1000" spc="-1" strike="noStrike">
                <a:solidFill>
                  <a:srgbClr val="ffffff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9" name="Triangle rect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c4800"/>
              </a:gs>
              <a:gs pos="50000">
                <a:srgbClr val="ff8b41"/>
              </a:gs>
              <a:gs pos="100000">
                <a:srgbClr val="cc48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e 7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1" name="Forme 10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ffb99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orme 11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Forme 12"/>
            <p:cNvGrpSpPr/>
            <p:nvPr/>
          </p:nvGrpSpPr>
          <p:grpSpPr>
            <a:xfrm>
              <a:off x="8640" y="4998240"/>
              <a:ext cx="9129240" cy="1866240"/>
              <a:chOff x="8640" y="4998240"/>
              <a:chExt cx="9129240" cy="186624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240"/>
                <a:ext cx="912924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864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6E2E-41DE-463C-97BB-B05D05E9C90A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6574-BE24-485F-882A-EB2A2C8B0611}" type="slidenum">
              <a:rPr b="0" lang="en-US" sz="1000" spc="-1" strike="noStrike">
                <a:solidFill>
                  <a:srgbClr val="ffffff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133E-EC0E-4543-9462-D33E3DBAA9C7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0FE5-A108-481A-A730-6E2EF172A665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151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f6516"/>
              </a:gs>
              <a:gs pos="100000">
                <a:srgbClr val="ffa579"/>
              </a:gs>
            </a:gsLst>
            <a:lin ang="16200000"/>
          </a:gradFill>
          <a:ln cap="rnd" w="3240">
            <a:solidFill>
              <a:srgbClr val="bb6126"/>
            </a:solidFill>
            <a:miter/>
          </a:ln>
          <a:effectLst>
            <a:outerShdw dist="153753" dir="27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DEED-7B07-4475-87EF-92794668B49D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11C4-6E4A-427F-A9F7-452D849E5FD9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A05F-2AFD-4086-AF10-4F2CF245F143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CA13-0A57-41D0-B0A1-77F9ED01ABFE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D2BA-5ADF-40AA-AAF5-F4C86B7A24BA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AB28-08F0-4589-B570-A12E4DA978B2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fff39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fff39d"/>
              </a:solidFill>
              <a:latin typeface="Eras Medium IT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5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  <a:p>
            <a:pPr lvl="6" marL="2057400" indent="-228600">
              <a:buClr>
                <a:srgbClr val="ffffff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ffffff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Eras Medium IT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D319-0405-4892-AE21-DCE5189A1701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028C-808A-4732-82FE-EA7C3F50EF92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rme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fb99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rme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Triangle rectangle 13"/>
          <p:cNvGrpSpPr/>
          <p:nvPr/>
        </p:nvGrpSpPr>
        <p:grpSpPr>
          <a:xfrm>
            <a:off x="-6480" y="5791320"/>
            <a:ext cx="3408480" cy="1085760"/>
            <a:chOff x="-6480" y="5791320"/>
            <a:chExt cx="3408480" cy="1085760"/>
          </a:xfrm>
        </p:grpSpPr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84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7560" cy="11034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E198-66C7-4B8F-A227-0B78AA0AD023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3D8B-48BE-4AAC-A3A1-786E9CDC9F08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Eras Medium ITC"/>
              </a:rPr>
              <a:t>Click to edit the title text format</a:t>
            </a:r>
            <a:endParaRPr b="1" lang="en-US" sz="4800" spc="-1" strike="noStrike">
              <a:solidFill>
                <a:srgbClr val="575f6d"/>
              </a:solidFill>
              <a:latin typeface="Eras Medium IT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e8637"/>
              </a:buClr>
              <a:buSzPct val="75000"/>
              <a:buFont typeface="Wingdings 3" charset="2"/>
              <a:buChar char="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1" marL="743040" indent="-285840">
              <a:buClr>
                <a:srgbClr val="fe8637"/>
              </a:buClr>
              <a:buFont typeface="Verdana"/>
              <a:buChar char="◦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2" marL="11430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3" marL="16002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4" marL="2057400" indent="-228600">
              <a:buClr>
                <a:srgbClr val="7598d9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"/>
            </a:pPr>
            <a:r>
              <a:rPr b="0" lang="en-US" sz="3100" spc="-1" strike="noStrike">
                <a:solidFill>
                  <a:srgbClr val="000000"/>
                </a:solidFill>
                <a:latin typeface="Eras Medium ITC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16DD-E10F-4F04-88E6-75B2FA28BBC4}" type="datetime2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Wednesday, 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Medium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0217-5CF4-4E71-9487-6E90D0FF28A3}" type="slidenum">
              <a:rPr b="0" lang="en-US" sz="1000" spc="-1" strike="noStrike">
                <a:solidFill>
                  <a:srgbClr val="000000"/>
                </a:solidFill>
                <a:latin typeface="Eras Medium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ZoneTexte 3"/>
          <p:cNvSpPr/>
          <p:nvPr/>
        </p:nvSpPr>
        <p:spPr>
          <a:xfrm>
            <a:off x="500040" y="54975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Presentation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2"/>
          <p:cNvSpPr/>
          <p:nvPr/>
        </p:nvSpPr>
        <p:spPr>
          <a:xfrm>
            <a:off x="500040" y="61437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1214280" y="2071800"/>
            <a:ext cx="68580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72880">
              <a:buClr>
                <a:srgbClr val="fe8637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Eras Medium ITC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Eras Medium ITC"/>
            </a:endParaRPr>
          </a:p>
        </p:txBody>
      </p:sp>
      <p:sp>
        <p:nvSpPr>
          <p:cNvPr id="467" name="ZoneTexte 4"/>
          <p:cNvSpPr/>
          <p:nvPr/>
        </p:nvSpPr>
        <p:spPr>
          <a:xfrm>
            <a:off x="2000160" y="107172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14:25:02Z</dcterms:created>
  <dc:creator>Ric</dc:creator>
  <dc:description/>
  <dc:language>en-US</dc:language>
  <cp:lastModifiedBy>Ric</cp:lastModifiedBy>
  <dcterms:modified xsi:type="dcterms:W3CDTF">2006-07-09T14:20:55Z</dcterms:modified>
  <cp:revision>85</cp:revision>
  <dc:subject/>
  <dc:title>Diapositive 1</dc:title>
</cp:coreProperties>
</file>