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EBF1-C6F6-472D-A694-8945081D1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C4FF-BBD8-43A5-8A67-977807506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F242-2EEC-432C-9959-51B130422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73E6-CC5C-48E2-964B-5E8704EA1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ACDE-F148-41B5-BF4D-7FF81332B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AD79-E358-4384-AC14-B7C761C04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5B20-9F1D-4065-8696-0C3E899C6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3F33-A37A-4629-8C7C-4B7E41C93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BB31-DC29-46C6-9FAC-8B65CF3AD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0CA1-1727-45AA-9C46-58C0C6CB2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11B0-1D14-44D8-A452-4FDAA3981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F7B2-299F-4794-B393-0B0373848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8D8D7-83AE-4F94-87D3-882930A96E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1680" y="15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Arial"/>
              </a:rPr>
              <a:t>PRESENTATION N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843200" y="1365120"/>
            <a:ext cx="640080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826920" y="1197000"/>
            <a:ext cx="7488000" cy="4070880"/>
            <a:chOff x="826920" y="1197000"/>
            <a:chExt cx="7488000" cy="4070880"/>
          </a:xfrm>
        </p:grpSpPr>
        <p:cxnSp>
          <p:nvCxnSpPr>
            <p:cNvPr id="48" name="_s12302"/>
            <p:cNvCxnSpPr>
              <a:stCxn id="49" idx="0"/>
              <a:endCxn id="50" idx="2"/>
            </p:cNvCxnSpPr>
            <p:nvPr/>
          </p:nvCxnSpPr>
          <p:spPr>
            <a:xfrm flipV="1" rot="16200000">
              <a:off x="5473800" y="1920960"/>
              <a:ext cx="814680" cy="2621520"/>
            </a:xfrm>
            <a:prstGeom prst="bentConnector3">
              <a:avLst>
                <a:gd name="adj1" fmla="val 127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1" name="_s12301"/>
            <p:cNvCxnSpPr>
              <a:stCxn id="52" idx="0"/>
              <a:endCxn id="50" idx="2"/>
            </p:cNvCxnSpPr>
            <p:nvPr/>
          </p:nvCxnSpPr>
          <p:spPr>
            <a:xfrm flipV="1">
              <a:off x="4570920" y="2824560"/>
              <a:ext cx="3600" cy="814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3" name="_s12300"/>
            <p:cNvCxnSpPr>
              <a:stCxn id="54" idx="0"/>
              <a:endCxn id="50" idx="2"/>
            </p:cNvCxnSpPr>
            <p:nvPr/>
          </p:nvCxnSpPr>
          <p:spPr>
            <a:xfrm flipH="1" flipV="1" rot="5400000">
              <a:off x="2853360" y="1921320"/>
              <a:ext cx="814680" cy="2621520"/>
            </a:xfrm>
            <a:prstGeom prst="bentConnector3">
              <a:avLst>
                <a:gd name="adj1" fmla="val 127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0" name="_s12296"/>
            <p:cNvSpPr/>
            <p:nvPr/>
          </p:nvSpPr>
          <p:spPr>
            <a:xfrm>
              <a:off x="3447720" y="1197000"/>
              <a:ext cx="2246400" cy="162828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1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12297"/>
            <p:cNvSpPr/>
            <p:nvPr/>
          </p:nvSpPr>
          <p:spPr>
            <a:xfrm>
              <a:off x="826920" y="3639600"/>
              <a:ext cx="2246400" cy="162828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1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12298"/>
            <p:cNvSpPr/>
            <p:nvPr/>
          </p:nvSpPr>
          <p:spPr>
            <a:xfrm>
              <a:off x="3447720" y="3639600"/>
              <a:ext cx="2246400" cy="162828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1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12299"/>
            <p:cNvSpPr/>
            <p:nvPr/>
          </p:nvSpPr>
          <p:spPr>
            <a:xfrm>
              <a:off x="6068520" y="3639600"/>
              <a:ext cx="2246400" cy="162828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1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34760" y="4365360"/>
            <a:ext cx="758196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Arial"/>
              </a:rPr>
              <a:t>Free PowerPoint Templa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378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Arial"/>
              </a:rPr>
              <a:t>FreePowerPoint.or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5T21:31:52Z</dcterms:created>
  <dc:creator>Mediac</dc:creator>
  <dc:description/>
  <dc:language>en-US</dc:language>
  <cp:lastModifiedBy>Mediac</cp:lastModifiedBy>
  <dcterms:modified xsi:type="dcterms:W3CDTF">2006-09-05T21:52:01Z</dcterms:modified>
  <cp:revision>5</cp:revision>
  <dc:subject/>
  <dc:title>PRESENTATION NAME</dc:title>
</cp:coreProperties>
</file>