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73B-5B89-4C4E-AD0F-BCAE86C5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656-0302-4ECA-A971-F88B671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FBE-4BA3-42C8-A723-27A17B4F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ED4-AAEC-486F-B0EC-A0C77F3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A3E-E79D-4DE8-B414-0F7E83C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4A6-DB41-4BBC-9E24-38A71813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3AB-803C-4287-AD10-97840CDD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0A4-3A5E-4E33-A5F9-7EE48BD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341-BF63-49B0-862A-6491550C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D5D-8E3F-44A4-9188-ED18AF5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50B-C026-4414-8EF6-1A86D51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6E7-82E7-4AD0-92C0-3E75075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C482-26D0-4342-BD1C-4345317E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403280" y="1197000"/>
            <a:ext cx="6395400" cy="4546800"/>
            <a:chOff x="1403280" y="1197000"/>
            <a:chExt cx="6395400" cy="4546800"/>
          </a:xfrm>
        </p:grpSpPr>
        <p:cxnSp>
          <p:nvCxnSpPr>
            <p:cNvPr id="47" name="_s6150"/>
            <p:cNvCxnSpPr>
              <a:stCxn id="48" idx="0"/>
              <a:endCxn id="49" idx="2"/>
            </p:cNvCxnSpPr>
            <p:nvPr/>
          </p:nvCxnSpPr>
          <p:spPr>
            <a:xfrm flipV="1" rot="16200000">
              <a:off x="5265360" y="2350440"/>
              <a:ext cx="910080" cy="2239200"/>
            </a:xfrm>
            <a:prstGeom prst="bentConnector3">
              <a:avLst>
                <a:gd name="adj1" fmla="val 12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6151"/>
            <p:cNvCxnSpPr>
              <a:stCxn id="51" idx="0"/>
              <a:endCxn id="49" idx="2"/>
            </p:cNvCxnSpPr>
            <p:nvPr/>
          </p:nvCxnSpPr>
          <p:spPr>
            <a:xfrm flipV="1">
              <a:off x="4601160" y="3015360"/>
              <a:ext cx="2880" cy="910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6152"/>
            <p:cNvCxnSpPr>
              <a:stCxn id="53" idx="0"/>
              <a:endCxn id="49" idx="2"/>
            </p:cNvCxnSpPr>
            <p:nvPr/>
          </p:nvCxnSpPr>
          <p:spPr>
            <a:xfrm flipH="1" flipV="1" rot="5400000">
              <a:off x="3026520" y="2350800"/>
              <a:ext cx="910080" cy="2239200"/>
            </a:xfrm>
            <a:prstGeom prst="bentConnector3">
              <a:avLst>
                <a:gd name="adj1" fmla="val 12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6153"/>
            <p:cNvSpPr/>
            <p:nvPr/>
          </p:nvSpPr>
          <p:spPr>
            <a:xfrm>
              <a:off x="3641760" y="1197000"/>
              <a:ext cx="1918440" cy="18187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4"/>
            <p:cNvSpPr/>
            <p:nvPr/>
          </p:nvSpPr>
          <p:spPr>
            <a:xfrm>
              <a:off x="1403280" y="3925080"/>
              <a:ext cx="1918440" cy="18187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5"/>
            <p:cNvSpPr/>
            <p:nvPr/>
          </p:nvSpPr>
          <p:spPr>
            <a:xfrm>
              <a:off x="3641760" y="3925080"/>
              <a:ext cx="1918440" cy="18187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6"/>
            <p:cNvSpPr/>
            <p:nvPr/>
          </p:nvSpPr>
          <p:spPr>
            <a:xfrm>
              <a:off x="5880240" y="3925080"/>
              <a:ext cx="1918440" cy="18187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4760" y="4365360"/>
            <a:ext cx="75819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78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FreePowerPoint.o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3:07:24Z</dcterms:created>
  <dc:creator>Mediac</dc:creator>
  <dc:description/>
  <dc:language>en-US</dc:language>
  <cp:lastModifiedBy>Mediac</cp:lastModifiedBy>
  <dcterms:modified xsi:type="dcterms:W3CDTF">2006-09-05T23:28:52Z</dcterms:modified>
  <cp:revision>7</cp:revision>
  <dc:subject/>
  <dc:title>PRESENTATION NAME</dc:title>
</cp:coreProperties>
</file>