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E2E-7183-4C7E-81FB-5111F849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418-34A7-4BE3-ABAD-F8FF6BE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D807F6-8F56-4640-AC1A-9A7704AC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9D2796-C1D5-4E68-A816-AF9B39A6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4D3A4-80AB-4F94-814F-B3F643A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81AB8-1379-418E-9E49-599EE66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AB957-E44F-4EC4-865F-2D9615ED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712774-B2FF-441D-9568-2020F10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06B2A-C473-4DDC-A656-DA92AD4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7FDBA-569B-40F7-9BF0-5E859FBD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725BC7-1AAB-481A-9A37-16FBF4B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29CC3-78B2-4474-8AAD-3C26DF5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51A-1CB3-4481-BF1D-52C5DAA2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4AE12B-86C7-43EB-91EF-7782EF4F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45C4B9-3073-4C69-9767-47DA4EB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580A1-F1D0-4701-A3F4-E14DC55D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E4B189-2D04-45F6-B836-9F6D2D2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549E4-47FF-4F34-AF9B-B7B29F5B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3C4DC9-6311-4243-B6DF-5289A30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267F90-3D97-483F-8931-3714225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5017CE-319E-42C1-9C3B-8220821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A29C9C-8578-4CF0-B916-3D973E3E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446AF7-2DFD-4F0F-8CD7-FF93DC6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705-5FAD-4DC3-A27E-0DD8CA61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2A7E50-F553-4107-928F-C94AF7C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BD548-E8C7-4D34-BA29-DDF48C72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C7261-B897-4BB6-BFA7-D003DD6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F7D78-A725-4A30-BE45-2E1DBEF3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A783-9A04-4351-8566-F77BC32B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B9D4B-4550-44EC-8A94-63DC44A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1CED-B2A2-4E68-86EA-F5C7FB7F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57487-BC56-4D50-8860-92FE4DA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DA4-AD00-4F48-AB10-A00D3CBB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9064-00CE-4A42-B046-C41239E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5290-F36C-4BF8-A124-15FD076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93B9-5D5B-4156-BF41-406D8F85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F3528-3ED6-4AA6-BEBA-595F1D44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C5D5A-4938-4A28-B177-BD97596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FD32-87FF-4016-942F-4A6C9194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60E8-AC87-4B5B-94AC-9AC87557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981F-18C9-455D-8F23-F49992E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6145-B864-4F77-BE94-5BCB3ACD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D489-9676-481C-A7E7-99576627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413-7010-4B1E-8A11-C0013D4E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069F-058D-472F-BA87-576C836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1798-2FF7-4A5C-8B32-36781CCA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13DB-1DBB-47AA-B5D9-A6BD36C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01A1-E9E3-4C9F-8B9F-4E2EC9C0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7953-F09E-4F68-86F3-034D29D3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7C0E-F9D9-4C9F-99BE-44945293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92CB-62C9-4CB7-A013-12B99555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7105A-1B69-43C5-972E-E602A07B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C889D-B2AF-41DD-8278-0DF4F16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0B8DF-23A4-44E1-8E45-0CE76B7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41B-FC4C-449A-9C7C-3010F30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85F3D-4A10-47F1-8913-29991929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E8449-8C74-4086-A5CD-700646D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1E4F6-A37E-4202-A1D4-4546468B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248B9-BD78-43D5-8CFA-54DE96F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AB7CF-AD4B-4EB1-AE3B-133ACC2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C3101-F616-4F1E-9480-8BE78B8E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FC320-7D76-4B32-85AF-423D9D14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B09FE-58BB-4B2D-B6B4-9AA2F79F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389C1-8F16-48A8-9444-FF318352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4469-11C6-4626-9ACB-CCDB1F3A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990-5C9F-4801-9654-0B736AE5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A46C-B985-4652-9492-81FD861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9257-E59D-4954-8FB6-10EE86B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65AFE-5BCB-4995-AE18-4381DCA0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1BA2-915B-4489-A9F8-7D450369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337D-6865-42B0-958E-64428B7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DD9A3-03EC-4EE9-B66F-8F8D04D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1A87-0C1D-4F8F-ABAA-223EF9C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788D-AE11-4773-BA15-6217479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D01C-7F38-4551-871A-B62BE927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09E4E-3031-4F3E-AD2B-B8C3A752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CBD-B27C-4A36-9FB5-0A1D0CF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D1F1-8682-4257-B4CF-104D055A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E15C2-2A92-4297-AFAE-1882BC02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A200-41CB-4442-AF04-ADE4C82D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8E0E-6457-436C-9503-27F81A0A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7D5A7-4A44-4642-B380-13BCF669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8153-54ED-48E2-838F-E373E8D7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0E04-599A-4ECC-B066-E06D2A1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EF1F-959E-4A11-9478-2E5A55F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8C38-C8F0-4586-B2C0-5027EC64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9DAF-FF20-4DB2-9481-5A28304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916-9E2A-479C-8F51-DEF94AD7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AB0F-4FE2-400C-A92A-DCBA9AC4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7BCE-612C-40AC-B91A-5815E22F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0928-8892-4690-A61B-9E4023B9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1BCF-4B5C-4654-9B9D-1466769F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F0A35-8438-45BB-953F-736E41B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86484-1644-47C5-828A-99A6EF4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AB0A5-EA52-486E-ABFD-07E82734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9119-E8E6-4090-A821-5D5C4015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82B8A-2279-4505-9CD6-3EA6D783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2A7B-C3AA-4CF2-BB25-C6590B6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D97-5125-4B8F-93AE-C4F95E0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5AA5E-3AC2-4CF7-8523-B3A58B6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BA1BB-5645-45E4-83C7-19E2787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5CB0-9CD1-4B47-8C68-F59C05BA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65E91-2AB3-4955-B0ED-4C985256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6818-A774-44D8-B8BE-36AB5FAE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4CB9-47D3-48AF-93C8-B57DE1B3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B4EF-469A-494C-9BAE-B4EB3F8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D7DD7-9C20-4091-834A-DCD4E4E0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E021-CF6B-4B2E-99CE-1B84C601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22DD-6EB6-4792-8D6A-E6CD4757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3B7-C002-4855-A15A-1BF699D1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EAF75-52E9-4D3B-A0F5-E324AAC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1E976-8714-49B7-B755-60FB7E4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9B70-7CF7-4495-AC19-705140D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03AE-22BF-4D65-82D2-127542E8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6A8A1-A607-4479-9EA6-C2C17F9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E444-912D-4AF4-9208-C3F8289D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A8A27-848D-4A3F-8B51-4D9E8EA3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83E2D-557C-4809-B53C-77534274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57D75-416F-4249-8EC0-8E4B980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EF888-955D-4E74-83C5-1668E287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0F5-9CEF-42E7-80C1-375F356907C6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C383A684-C84D-4178-93BB-D8A39AB622D1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2a376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96C0-88D8-4BB0-9278-B25256604780}" type="slidenum">
              <a:rPr b="0" lang="en-US" sz="1600" spc="-1" strike="noStrike">
                <a:solidFill>
                  <a:srgbClr val="72a376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72a376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4EB9-6E31-4849-81EB-BC4F664222A8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56B62A95-7F37-40E1-8F93-BA7BDECF1AD7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2a376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AC47-5F5A-4934-80C8-C9480EF4F1D5}" type="slidenum">
              <a:rPr b="0" lang="en-US" sz="1600" spc="-1" strike="noStrike">
                <a:solidFill>
                  <a:srgbClr val="72a376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72a376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Arrondir un rectangle avec un coin diagonal 6"/>
          <p:cNvSpPr/>
          <p:nvPr/>
        </p:nvSpPr>
        <p:spPr>
          <a:xfrm>
            <a:off x="165240" y="146160"/>
            <a:ext cx="8813520" cy="250488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7E4-809E-43C9-817A-170F14E89CEE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2E8E4163-1AC0-4602-AC7C-6701CFDDD3AE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2a376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F49C-19BF-449F-86FA-10E3D9391182}" type="slidenum">
              <a:rPr b="0" lang="en-US" sz="1600" spc="-1" strike="noStrike">
                <a:solidFill>
                  <a:srgbClr val="72a376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72a376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88960" y="1303200"/>
            <a:ext cx="8001000" cy="79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BE6-79F0-4F65-9F69-0547CCCC7B9B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A5089A7C-8438-40B5-9871-1C3ED308CF93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bbd8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86CA-6EB5-4845-AE66-82C74D44238F}" type="slidenum">
              <a:rPr b="0" lang="en-US" sz="1600" spc="-1" strike="noStrike">
                <a:solidFill>
                  <a:srgbClr val="8bbd8f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000080" y="3156120"/>
            <a:ext cx="7407360" cy="79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0B6-488C-45DA-A5C6-2759801DEB7B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7D5FEC9B-188C-4BC7-AAA4-5E50BB9C78B1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2a376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516A-F35F-4A62-B383-4407F44A616F}" type="slidenum">
              <a:rPr b="0" lang="en-US" sz="1600" spc="-1" strike="noStrike">
                <a:solidFill>
                  <a:srgbClr val="72a376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72a376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88960" y="1303200"/>
            <a:ext cx="8001000" cy="79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A1D-C2F9-4110-AC33-C6D7DAC92053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A4DDD73C-CFA0-452E-80C2-C1CCFAF9158B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bbd8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80F5-4BB2-4E8B-ABBD-48764BF08880}" type="slidenum">
              <a:rPr b="0" lang="en-US" sz="1600" spc="-1" strike="noStrike">
                <a:solidFill>
                  <a:srgbClr val="8bbd8f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17400" y="2100240"/>
            <a:ext cx="374832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2100240"/>
            <a:ext cx="37497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0FDB-06B3-49AD-808E-F502BB2CD232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93DB0D66-9462-4AD6-9EA8-B6B6B97E1EBE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bbd8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E168-07CD-45CA-B160-B2C072B396CE}" type="slidenum">
              <a:rPr b="0" lang="en-US" sz="1600" spc="-1" strike="noStrike">
                <a:solidFill>
                  <a:srgbClr val="8bbd8f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588960" y="1303200"/>
            <a:ext cx="8001000" cy="79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E711-B73F-4A49-8F2C-FF70BAEC612E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29FC1144-9DD8-4E14-9796-DFBE837165AF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bbd8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A54-2C9F-476D-B325-67FFEFDF1D1F}" type="slidenum">
              <a:rPr b="0" lang="en-US" sz="1600" spc="-1" strike="noStrike">
                <a:solidFill>
                  <a:srgbClr val="8bbd8f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4a4c3c">
              <a:alpha val="65000"/>
            </a:srgbClr>
          </a:solidFill>
          <a:ln cap="rnd" w="11160">
            <a:solidFill>
              <a:srgbClr val="9da08f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82B0-5E21-4C62-950D-088741500853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1E48D0DB-B408-40FB-A422-19A50C9B9C8F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bbd8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991-BFA4-4B19-823A-183E7EA64CF6}" type="slidenum">
              <a:rPr b="0" lang="en-US" sz="1600" spc="-1" strike="noStrike">
                <a:solidFill>
                  <a:srgbClr val="8bbd8f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b0ccb0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a8cdd7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057640" y="996840"/>
            <a:ext cx="374832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5A7F-7AAD-4C6C-862B-BE63FA1469F3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 </a:t>
            </a:r>
            <a:fld id="{063FBED2-B7BE-4C7D-82A5-A9038EF11F63}" type="datetime10">
              <a:rPr b="0" lang="en-US" sz="1300" spc="-1" strike="noStrike">
                <a:solidFill>
                  <a:srgbClr val="b9bbb2"/>
                </a:solidFill>
                <a:latin typeface="Rockwell"/>
              </a:rPr>
              <a:t>12:12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2a376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48F9-4DA6-439B-9D32-E46E090E98F7}" type="slidenum">
              <a:rPr b="0" lang="en-US" sz="1600" spc="-1" strike="noStrike">
                <a:solidFill>
                  <a:srgbClr val="72a376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72a376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rme 5"/>
          <p:cNvSpPr/>
          <p:nvPr/>
        </p:nvSpPr>
        <p:spPr>
          <a:xfrm>
            <a:off x="457200" y="1120680"/>
            <a:ext cx="8305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</a:tabLst>
            </a:pPr>
            <a:r>
              <a:rPr b="0" lang="fr-CA" sz="4600" spc="-1" strike="noStrike">
                <a:solidFill>
                  <a:srgbClr val="e7eacb"/>
                </a:solidFill>
                <a:latin typeface="Rockwell"/>
              </a:rPr>
              <a:t>PRESENTATION NAM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orme 6"/>
          <p:cNvSpPr/>
          <p:nvPr/>
        </p:nvSpPr>
        <p:spPr>
          <a:xfrm>
            <a:off x="2362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0760" indent="-3207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Rockwel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Rockwel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ZoneTexte 4"/>
          <p:cNvSpPr/>
          <p:nvPr/>
        </p:nvSpPr>
        <p:spPr>
          <a:xfrm>
            <a:off x="6963840" y="50004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400" spc="-1" strike="noStrike">
                <a:solidFill>
                  <a:srgbClr val="ffffff"/>
                </a:solidFill>
                <a:latin typeface="Rockwell"/>
              </a:rPr>
              <a:t>Tit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12:20Z</dcterms:created>
  <dc:creator>Ric</dc:creator>
  <dc:description/>
  <dc:language>en-US</dc:language>
  <cp:lastModifiedBy>Mediac</cp:lastModifiedBy>
  <dcterms:modified xsi:type="dcterms:W3CDTF">2006-08-19T19:05:34Z</dcterms:modified>
  <cp:revision>16</cp:revision>
  <dc:subject/>
  <dc:title>PRESENTATION NAME</dc:title>
</cp:coreProperties>
</file>