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C1E-8187-49C0-8AB7-D3285222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A8C8-24B5-4FB2-9EC5-421AEDB7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41AC57-97FF-40F9-9C5A-1C3C6F71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34F3A5-0F35-4A9E-8316-D9163F18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-320760" algn="ctr"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1DCEC8-9F5A-4AF6-AA9F-B6D12D8C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FA41C3-49F8-4A49-938D-45A4461D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CBE897-84EE-4C0A-B853-95566F53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81B196-7480-4FFF-A16F-735AAA57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AE2F4D-FF34-457B-A8CE-71286DF5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50A72C-B104-45AD-8EFD-1BCDEE1E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CD77CB-336C-4651-A400-74603266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FFCA90-24F0-48AF-9785-1BD4570D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692-28F2-4BC0-AD15-A7731AFD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EBE9BC-6616-4BB8-8FEB-49398388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EFE2AB-CA7C-4BE8-94D4-2135A239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A7726C-B00A-4AD6-8F4B-B3106C37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E16D8B-B33B-4C8E-BD34-286880FB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-320760" algn="ctr"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02EEE1-6AFA-4849-BBB7-D1C4EB02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1D062D-5A55-45BD-968D-C55CDFB3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33D8AD-6051-401B-8B72-8E51816E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DAA3D7-1F01-4588-868D-74D69347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8F86E1-DF84-4CE6-9524-E1F3040A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F41862-47E1-43FF-9CB7-376B2556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14E-7B8D-4FEE-8A9F-DE63A7C5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382F99-AC1D-43AA-979E-97FE1F58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2DB61-178B-4671-A626-B92211FC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613CC-5B23-47F5-A161-D8AD3A3E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E285D-0BAA-449A-B20F-7D000A36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5D6E9-DFDE-4E6D-84A0-64BE36F8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FF5D9-AE4F-4E37-8DC8-3BCA2C79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-320760" algn="ctr"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B7DF1-AF61-43E3-ABB2-FFF11185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9EA8E-5F77-4533-9804-8EFE3477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E69-27BE-4080-B182-662EB129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0C4D9-2B50-4AA6-ADAD-012082FB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CB1B6-3FCA-4635-8FE9-3B6E8F12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7848A-8AE1-4048-8C7D-AF8C2D50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6B10B-FB5A-4CAB-87D2-6DAC465A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0A6CA-4612-4AD2-A3C8-AB6CBC20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464BE-BFAF-41E3-A4A4-366D7AD9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2B013-7D1D-41FE-9144-6825894A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431C5-E589-4878-AD66-D964D590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B8203-DE30-4C01-9CD0-62A043B0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2D75A-871A-4434-B37F-6AB9BBD6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24BA-0168-4637-A219-39DB6C13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-320760" algn="ctr"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15536-AC7F-4ABA-A0F9-1D481024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B6A05-4829-4F93-81A4-DBA51751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728B0-F698-49E6-9ADD-7FF18F48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39ED2-3DDB-4625-8D56-3F0CFB16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EF9BB-34F2-4E42-80FC-CEDD1DC5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918FA-B2F6-408D-BFC2-FC92A632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E55EF-42FA-43E5-94B6-80DD8DF1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9FADA1-6286-457B-BE0C-BE15575F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ACAEA6-72E1-4A7C-82E5-DBC5E2CF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12304F-0E8F-4AA4-A1B5-B951836B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E6F-A4CA-4FEB-8E76-3F66A224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95B108-9A0D-44DA-9644-F05A2840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8C4F30-F3AE-4CDE-ADD8-B5FAD075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-320760" algn="ctr"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40F870-F3E3-4E1F-9BD4-E2CD1E98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96E33-3BED-4C22-AADB-D8599BCF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251F8D-862D-4697-9C17-ABE8594C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C8188A-A860-4539-A4AF-D9CC476A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56211D-15EC-4D27-9F00-FA493FD2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C0F4DA-2051-4028-9ECE-C5ABB572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FDE8D3-A27F-4EF3-B4CB-FBF8C2DB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9EDE3-269A-43B1-8681-1693125B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216-8474-4D13-A4F6-51324F67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92433-EA7C-42C5-B095-0E00E086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C6F6E-A5BF-4A30-9EC0-B6929D76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4B86A-856B-4587-806E-BEE7B9A4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ACED1-5190-4719-B600-D530977F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-320760" algn="ctr"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12BCC-E1B0-47F7-A397-AC24F2FA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0647D-FF74-456E-84F7-02C356CB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33971-2AB4-4CF2-8284-4DA02205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1FD10-7CC9-4D22-B23D-3CCF46D5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CF67F-D40D-4B85-9461-DD307AFB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85243-8E0D-497F-8813-BEDFAC86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-320760" algn="ctr"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7E3-D883-47AD-B5E2-1B7FCE0B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3B5D3-ABAE-460C-B9A2-AD0773FC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6DF58-2EEE-43B4-8FC4-A6675313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09B62-0E9C-4F9F-966D-55F0532A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C4675-B0C8-4860-A235-0A6377D6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8108F-B7D5-47DA-9017-0C16DA50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F2C37-6296-4324-BD8B-1EA1651C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-320760" algn="ctr"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F26F4-5C7B-450F-8345-68D4CF9C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9868D-7578-4AB4-B1F0-70639F7C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E3610-EBD2-490C-84B8-1812BA0C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89C67-147C-42C6-AACF-9EB383BB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487-0FA1-4D9A-9273-4337AF43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380AA-0B2A-4794-9987-8817E5DE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7D72D-06CB-4661-B1BE-F1ADBB05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C427D-5E52-4429-84D2-59304805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2794D-D3FB-482B-B234-98C8E63A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C57A4-BFDF-42F3-A3CA-40453594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5379A-D08D-4140-B245-116743B7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3DCEE-304B-4E58-89E9-30B6AD47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A8943-D62A-4DA7-94B3-07608F76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-320760" algn="ctr"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D0AD7-C7DA-48F3-9531-01840EC6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213B8-6F9A-4025-B889-31FAED5F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3B8D-3EE1-4BF2-8272-AA89F3A6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619B4-2829-4613-A198-7B63D58D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BFF32-D407-4ABB-8A57-91EC61E9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7D53A-5E30-48E2-B3E1-D64D3BCB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3B968-26B7-4FA1-B3E8-65661EC3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A8660-B4A2-4B11-B48E-A8A4F5B8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4EAC4-2AA8-46B2-A766-DE3809CB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72E95-136C-43E3-AD7E-7D7E8C49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00F55-E8FB-45DB-982D-85077B49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5AF91-3584-4E8F-838F-F94DDD91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7F893-D39F-4CF9-A066-28C39EC5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66D-5166-48C6-AFBF-3480D029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-320760" algn="ctr"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AE6AA-2003-4709-BF93-FD2579AF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C4AC4-BBA7-40EC-978F-45900505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5671D-6735-4B66-8316-FA455E3D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D0B23-CBCE-43F7-8849-85FC2C79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039B5-2AC0-4B01-AA1E-80A561E2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5BE44-C4C2-41D3-A171-D2028DA2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C6BCB-2C0E-49AA-846A-F64666EF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5DAA0C-E919-4F93-A8AD-C0BDF518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4649E2-755A-49D7-B5C6-4F317BFF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84A76A-89F1-4226-82B6-B675C439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rondir un rectangle avec un coin diagonal 6"/>
          <p:cNvSpPr/>
          <p:nvPr/>
        </p:nvSpPr>
        <p:spPr>
          <a:xfrm>
            <a:off x="165240" y="147600"/>
            <a:ext cx="8810640" cy="6564240"/>
          </a:xfrm>
          <a:prstGeom prst="pie">
            <a:avLst/>
          </a:prstGeom>
          <a:solidFill>
            <a:srgbClr val="372920">
              <a:alpha val="65000"/>
            </a:srgbClr>
          </a:solidFill>
          <a:ln cap="rnd" w="11160">
            <a:solidFill>
              <a:srgbClr val="948984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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buClr>
                <a:srgbClr val="a5644e"/>
              </a:buClr>
              <a:buSzPct val="90000"/>
              <a:buFont typeface="Rockwel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3aeac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F164-6720-425C-A2F6-83E133CECD2C}" type="datetime">
              <a:rPr b="0" lang="en-US" sz="1300" spc="-1" strike="noStrike">
                <a:solidFill>
                  <a:srgbClr val="b3aeac"/>
                </a:solidFill>
                <a:latin typeface="Rockwell"/>
              </a:rPr>
              <a:t>07/29/26</a:t>
            </a:fld>
            <a:r>
              <a:rPr b="0" lang="en-US" sz="1300" spc="-1" strike="noStrike">
                <a:solidFill>
                  <a:srgbClr val="b3aeac"/>
                </a:solidFill>
                <a:latin typeface="Rockwell"/>
              </a:rPr>
              <a:t> </a:t>
            </a:r>
            <a:fld id="{D6A10898-5F46-4BA9-9966-9863D9747C9F}" type="datetime10">
              <a:rPr b="0" lang="en-US" sz="1300" spc="-1" strike="noStrike">
                <a:solidFill>
                  <a:srgbClr val="b3aeac"/>
                </a:solidFill>
                <a:latin typeface="Rockwell"/>
              </a:rPr>
              <a:t>14:4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00200" y="6400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0a22e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3FA8-312C-4DA5-B489-47E1C1DB8C09}" type="slidenum">
              <a:rPr b="0" lang="en-US" sz="1600" spc="-1" strike="noStrike">
                <a:solidFill>
                  <a:srgbClr val="f0a22e"/>
                </a:solidFill>
                <a:latin typeface="Rockwell"/>
              </a:rPr>
              <a:t>&lt;number&gt;</a:t>
            </a:fld>
            <a:r>
              <a:rPr b="0" lang="en-US" sz="1600" spc="-1" strike="noStrike">
                <a:solidFill>
                  <a:srgbClr val="f0a22e"/>
                </a:solidFill>
                <a:latin typeface="Rockwel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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buClr>
                <a:srgbClr val="a5644e"/>
              </a:buClr>
              <a:buSzPct val="90000"/>
              <a:buFont typeface="Rockwel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3aeac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8BE0-519E-4BA5-A19B-3AC7F6AB4377}" type="datetime">
              <a:rPr b="0" lang="en-US" sz="1300" spc="-1" strike="noStrike">
                <a:solidFill>
                  <a:srgbClr val="b3aeac"/>
                </a:solidFill>
                <a:latin typeface="Rockwell"/>
              </a:rPr>
              <a:t>07/29/26</a:t>
            </a:fld>
            <a:r>
              <a:rPr b="0" lang="en-US" sz="1300" spc="-1" strike="noStrike">
                <a:solidFill>
                  <a:srgbClr val="b3aeac"/>
                </a:solidFill>
                <a:latin typeface="Rockwell"/>
              </a:rPr>
              <a:t> </a:t>
            </a:r>
            <a:fld id="{21CA616F-71EA-4C7C-87E9-07C31EB90BC7}" type="datetime10">
              <a:rPr b="0" lang="en-US" sz="1300" spc="-1" strike="noStrike">
                <a:solidFill>
                  <a:srgbClr val="b3aeac"/>
                </a:solidFill>
                <a:latin typeface="Rockwell"/>
              </a:rPr>
              <a:t>14:4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0a22e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EBBA-E704-43B7-937C-67A8EBFF2614}" type="slidenum">
              <a:rPr b="0" lang="en-US" sz="1600" spc="-1" strike="noStrike">
                <a:solidFill>
                  <a:srgbClr val="f0a22e"/>
                </a:solidFill>
                <a:latin typeface="Rockwell"/>
              </a:rPr>
              <a:t>&lt;number&gt;</a:t>
            </a:fld>
            <a:r>
              <a:rPr b="0" lang="en-US" sz="1600" spc="-1" strike="noStrike">
                <a:solidFill>
                  <a:srgbClr val="f0a22e"/>
                </a:solidFill>
                <a:latin typeface="Rockwel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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buClr>
                <a:srgbClr val="a5644e"/>
              </a:buClr>
              <a:buSzPct val="90000"/>
              <a:buFont typeface="Rockwel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" name="Arrondir un rectangle avec un coin diagonal 6"/>
          <p:cNvSpPr/>
          <p:nvPr/>
        </p:nvSpPr>
        <p:spPr>
          <a:xfrm>
            <a:off x="165240" y="146160"/>
            <a:ext cx="8813520" cy="2504880"/>
          </a:xfrm>
          <a:prstGeom prst="pie">
            <a:avLst/>
          </a:prstGeom>
          <a:solidFill>
            <a:srgbClr val="372920">
              <a:alpha val="65000"/>
            </a:srgbClr>
          </a:solidFill>
          <a:ln cap="rnd" w="11160">
            <a:solidFill>
              <a:srgbClr val="948984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3aeac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01A4-7576-4FD6-93F8-B91755E35D5E}" type="datetime">
              <a:rPr b="0" lang="en-US" sz="1300" spc="-1" strike="noStrike">
                <a:solidFill>
                  <a:srgbClr val="b3aeac"/>
                </a:solidFill>
                <a:latin typeface="Rockwell"/>
              </a:rPr>
              <a:t>07/29/26</a:t>
            </a:fld>
            <a:r>
              <a:rPr b="0" lang="en-US" sz="1300" spc="-1" strike="noStrike">
                <a:solidFill>
                  <a:srgbClr val="b3aeac"/>
                </a:solidFill>
                <a:latin typeface="Rockwell"/>
              </a:rPr>
              <a:t> </a:t>
            </a:r>
            <a:fld id="{593F94E7-F218-4D4B-936B-57DC89EFD5BC}" type="datetime10">
              <a:rPr b="0" lang="en-US" sz="1300" spc="-1" strike="noStrike">
                <a:solidFill>
                  <a:srgbClr val="b3aeac"/>
                </a:solidFill>
                <a:latin typeface="Rockwell"/>
              </a:rPr>
              <a:t>14:4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0a22e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B804-B736-4C88-B2E4-A802E7E240CC}" type="slidenum">
              <a:rPr b="0" lang="en-US" sz="1600" spc="-1" strike="noStrike">
                <a:solidFill>
                  <a:srgbClr val="f0a22e"/>
                </a:solidFill>
                <a:latin typeface="Rockwell"/>
              </a:rPr>
              <a:t>&lt;number&gt;</a:t>
            </a:fld>
            <a:r>
              <a:rPr b="0" lang="en-US" sz="1600" spc="-1" strike="noStrike">
                <a:solidFill>
                  <a:srgbClr val="f0a22e"/>
                </a:solidFill>
                <a:latin typeface="Rockwel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rrondir un rectangle avec un coin diagonal 6"/>
          <p:cNvSpPr/>
          <p:nvPr/>
        </p:nvSpPr>
        <p:spPr>
          <a:xfrm>
            <a:off x="165240" y="147600"/>
            <a:ext cx="8810640" cy="6564240"/>
          </a:xfrm>
          <a:prstGeom prst="pie">
            <a:avLst/>
          </a:prstGeom>
          <a:solidFill>
            <a:srgbClr val="372920">
              <a:alpha val="65000"/>
            </a:srgbClr>
          </a:solidFill>
          <a:ln cap="rnd" w="11160">
            <a:solidFill>
              <a:srgbClr val="948984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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buClr>
                <a:srgbClr val="a5644e"/>
              </a:buClr>
              <a:buSzPct val="90000"/>
              <a:buFont typeface="Rockwel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88960" y="1303200"/>
            <a:ext cx="8001000" cy="79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3aeac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8960-CF67-4BC0-93AF-95B33CF6FF63}" type="datetime">
              <a:rPr b="0" lang="en-US" sz="1300" spc="-1" strike="noStrike">
                <a:solidFill>
                  <a:srgbClr val="b3aeac"/>
                </a:solidFill>
                <a:latin typeface="Rockwell"/>
              </a:rPr>
              <a:t>07/29/26</a:t>
            </a:fld>
            <a:r>
              <a:rPr b="0" lang="en-US" sz="1300" spc="-1" strike="noStrike">
                <a:solidFill>
                  <a:srgbClr val="b3aeac"/>
                </a:solidFill>
                <a:latin typeface="Rockwell"/>
              </a:rPr>
              <a:t> </a:t>
            </a:r>
            <a:fld id="{A2D04665-CF18-4EE8-9454-BD83777A9E64}" type="datetime10">
              <a:rPr b="0" lang="en-US" sz="1300" spc="-1" strike="noStrike">
                <a:solidFill>
                  <a:srgbClr val="b3aeac"/>
                </a:solidFill>
                <a:latin typeface="Rockwell"/>
              </a:rPr>
              <a:t>14:4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600200" y="6400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b55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6596-5265-425B-BD70-60E193E4723C}" type="slidenum">
              <a:rPr b="0" lang="en-US" sz="1600" spc="-1" strike="noStrike">
                <a:solidFill>
                  <a:srgbClr val="ffb55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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buClr>
                <a:srgbClr val="a5644e"/>
              </a:buClr>
              <a:buSzPct val="90000"/>
              <a:buFont typeface="Rockwel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1000080" y="3156120"/>
            <a:ext cx="7407360" cy="79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3aeac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CBB4-CF25-473F-A514-C41690E1FFAB}" type="datetime">
              <a:rPr b="0" lang="en-US" sz="1300" spc="-1" strike="noStrike">
                <a:solidFill>
                  <a:srgbClr val="b3aeac"/>
                </a:solidFill>
                <a:latin typeface="Rockwell"/>
              </a:rPr>
              <a:t>07/29/26</a:t>
            </a:fld>
            <a:r>
              <a:rPr b="0" lang="en-US" sz="1300" spc="-1" strike="noStrike">
                <a:solidFill>
                  <a:srgbClr val="b3aeac"/>
                </a:solidFill>
                <a:latin typeface="Rockwell"/>
              </a:rPr>
              <a:t> </a:t>
            </a:r>
            <a:fld id="{C9005260-DAC5-4A80-9C62-27008221A1CC}" type="datetime10">
              <a:rPr b="0" lang="en-US" sz="1300" spc="-1" strike="noStrike">
                <a:solidFill>
                  <a:srgbClr val="b3aeac"/>
                </a:solidFill>
                <a:latin typeface="Rockwell"/>
              </a:rPr>
              <a:t>14:4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0a22e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F88C-920D-41F2-89CD-8000E01CEE5F}" type="slidenum">
              <a:rPr b="0" lang="en-US" sz="1600" spc="-1" strike="noStrike">
                <a:solidFill>
                  <a:srgbClr val="f0a22e"/>
                </a:solidFill>
                <a:latin typeface="Rockwell"/>
              </a:rPr>
              <a:t>&lt;number&gt;</a:t>
            </a:fld>
            <a:r>
              <a:rPr b="0" lang="en-US" sz="1600" spc="-1" strike="noStrike">
                <a:solidFill>
                  <a:srgbClr val="f0a22e"/>
                </a:solidFill>
                <a:latin typeface="Rockwel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rondir un rectangle avec un coin diagonal 6"/>
          <p:cNvSpPr/>
          <p:nvPr/>
        </p:nvSpPr>
        <p:spPr>
          <a:xfrm>
            <a:off x="165240" y="147600"/>
            <a:ext cx="8810640" cy="6564240"/>
          </a:xfrm>
          <a:prstGeom prst="pie">
            <a:avLst/>
          </a:prstGeom>
          <a:solidFill>
            <a:srgbClr val="372920">
              <a:alpha val="65000"/>
            </a:srgbClr>
          </a:solidFill>
          <a:ln cap="rnd" w="11160">
            <a:solidFill>
              <a:srgbClr val="948984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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buClr>
                <a:srgbClr val="a5644e"/>
              </a:buClr>
              <a:buSzPct val="90000"/>
              <a:buFont typeface="Rockwel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588960" y="1303200"/>
            <a:ext cx="8001000" cy="79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3aeac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AC51-9535-47CE-BD45-BB72F1D260C6}" type="datetime">
              <a:rPr b="0" lang="en-US" sz="1300" spc="-1" strike="noStrike">
                <a:solidFill>
                  <a:srgbClr val="b3aeac"/>
                </a:solidFill>
                <a:latin typeface="Rockwell"/>
              </a:rPr>
              <a:t>07/29/26</a:t>
            </a:fld>
            <a:r>
              <a:rPr b="0" lang="en-US" sz="1300" spc="-1" strike="noStrike">
                <a:solidFill>
                  <a:srgbClr val="b3aeac"/>
                </a:solidFill>
                <a:latin typeface="Rockwell"/>
              </a:rPr>
              <a:t> </a:t>
            </a:r>
            <a:fld id="{430F960E-0C1D-4A3C-B95B-DF567DF283F5}" type="datetime10">
              <a:rPr b="0" lang="en-US" sz="1300" spc="-1" strike="noStrike">
                <a:solidFill>
                  <a:srgbClr val="b3aeac"/>
                </a:solidFill>
                <a:latin typeface="Rockwell"/>
              </a:rPr>
              <a:t>14:4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1600200" y="6400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b55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2680-E03E-4D5A-AE41-A60E40223FC6}" type="slidenum">
              <a:rPr b="0" lang="en-US" sz="1600" spc="-1" strike="noStrike">
                <a:solidFill>
                  <a:srgbClr val="ffb55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rrondir un rectangle avec un coin diagonal 6"/>
          <p:cNvSpPr/>
          <p:nvPr/>
        </p:nvSpPr>
        <p:spPr>
          <a:xfrm>
            <a:off x="165240" y="147600"/>
            <a:ext cx="8810640" cy="6564240"/>
          </a:xfrm>
          <a:prstGeom prst="pie">
            <a:avLst/>
          </a:prstGeom>
          <a:solidFill>
            <a:srgbClr val="372920">
              <a:alpha val="65000"/>
            </a:srgbClr>
          </a:solidFill>
          <a:ln cap="rnd" w="11160">
            <a:solidFill>
              <a:srgbClr val="948984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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buClr>
                <a:srgbClr val="a5644e"/>
              </a:buClr>
              <a:buSzPct val="90000"/>
              <a:buFont typeface="Rockwel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17400" y="2100240"/>
            <a:ext cx="3748320" cy="9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800600" y="2100240"/>
            <a:ext cx="3749760" cy="9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3aeac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5F69-98DF-471C-9B1D-5A5C386DC00D}" type="datetime">
              <a:rPr b="0" lang="en-US" sz="1300" spc="-1" strike="noStrike">
                <a:solidFill>
                  <a:srgbClr val="b3aeac"/>
                </a:solidFill>
                <a:latin typeface="Rockwell"/>
              </a:rPr>
              <a:t>07/29/26</a:t>
            </a:fld>
            <a:r>
              <a:rPr b="0" lang="en-US" sz="1300" spc="-1" strike="noStrike">
                <a:solidFill>
                  <a:srgbClr val="b3aeac"/>
                </a:solidFill>
                <a:latin typeface="Rockwell"/>
              </a:rPr>
              <a:t> </a:t>
            </a:r>
            <a:fld id="{C6722BB1-B091-439E-A1DF-935F3C1D9C6F}" type="datetime10">
              <a:rPr b="0" lang="en-US" sz="1300" spc="-1" strike="noStrike">
                <a:solidFill>
                  <a:srgbClr val="b3aeac"/>
                </a:solidFill>
                <a:latin typeface="Rockwell"/>
              </a:rPr>
              <a:t>14:4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1600200" y="6400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b55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FD47-79CB-4670-9DD9-8A7406FA8613}" type="slidenum">
              <a:rPr b="0" lang="en-US" sz="1600" spc="-1" strike="noStrike">
                <a:solidFill>
                  <a:srgbClr val="ffb55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rrondir un rectangle avec un coin diagonal 6"/>
          <p:cNvSpPr/>
          <p:nvPr/>
        </p:nvSpPr>
        <p:spPr>
          <a:xfrm>
            <a:off x="165240" y="147600"/>
            <a:ext cx="8810640" cy="6564240"/>
          </a:xfrm>
          <a:prstGeom prst="pie">
            <a:avLst/>
          </a:prstGeom>
          <a:solidFill>
            <a:srgbClr val="372920">
              <a:alpha val="65000"/>
            </a:srgbClr>
          </a:solidFill>
          <a:ln cap="rnd" w="11160">
            <a:solidFill>
              <a:srgbClr val="948984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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buClr>
                <a:srgbClr val="a5644e"/>
              </a:buClr>
              <a:buSzPct val="90000"/>
              <a:buFont typeface="Rockwel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588960" y="1303200"/>
            <a:ext cx="8001000" cy="79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3aeac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903A-29D2-441F-9550-78AE020F10C8}" type="datetime">
              <a:rPr b="0" lang="en-US" sz="1300" spc="-1" strike="noStrike">
                <a:solidFill>
                  <a:srgbClr val="b3aeac"/>
                </a:solidFill>
                <a:latin typeface="Rockwell"/>
              </a:rPr>
              <a:t>07/29/26</a:t>
            </a:fld>
            <a:r>
              <a:rPr b="0" lang="en-US" sz="1300" spc="-1" strike="noStrike">
                <a:solidFill>
                  <a:srgbClr val="b3aeac"/>
                </a:solidFill>
                <a:latin typeface="Rockwell"/>
              </a:rPr>
              <a:t> </a:t>
            </a:r>
            <a:fld id="{007AF21A-0451-4375-B227-9AAE42372931}" type="datetime10">
              <a:rPr b="0" lang="en-US" sz="1300" spc="-1" strike="noStrike">
                <a:solidFill>
                  <a:srgbClr val="b3aeac"/>
                </a:solidFill>
                <a:latin typeface="Rockwell"/>
              </a:rPr>
              <a:t>14:4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1600200" y="6400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b55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3228-EFA0-47C7-A163-6B1FD2C29B4C}" type="slidenum">
              <a:rPr b="0" lang="en-US" sz="1600" spc="-1" strike="noStrike">
                <a:solidFill>
                  <a:srgbClr val="ffb55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rrondir un rectangle avec un coin diagonal 6"/>
          <p:cNvSpPr/>
          <p:nvPr/>
        </p:nvSpPr>
        <p:spPr>
          <a:xfrm>
            <a:off x="165240" y="147600"/>
            <a:ext cx="8810640" cy="6564240"/>
          </a:xfrm>
          <a:prstGeom prst="pie">
            <a:avLst/>
          </a:prstGeom>
          <a:solidFill>
            <a:srgbClr val="372920">
              <a:alpha val="65000"/>
            </a:srgbClr>
          </a:solidFill>
          <a:ln cap="rnd" w="11160">
            <a:solidFill>
              <a:srgbClr val="948984">
                <a:alpha val="8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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buClr>
                <a:srgbClr val="a5644e"/>
              </a:buClr>
              <a:buSzPct val="90000"/>
              <a:buFont typeface="Rockwel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3aeac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0235-0ADF-4032-8BEE-01EF868FFAFC}" type="datetime">
              <a:rPr b="0" lang="en-US" sz="1300" spc="-1" strike="noStrike">
                <a:solidFill>
                  <a:srgbClr val="b3aeac"/>
                </a:solidFill>
                <a:latin typeface="Rockwell"/>
              </a:rPr>
              <a:t>07/29/26</a:t>
            </a:fld>
            <a:r>
              <a:rPr b="0" lang="en-US" sz="1300" spc="-1" strike="noStrike">
                <a:solidFill>
                  <a:srgbClr val="b3aeac"/>
                </a:solidFill>
                <a:latin typeface="Rockwell"/>
              </a:rPr>
              <a:t> </a:t>
            </a:r>
            <a:fld id="{4D89640C-BA08-4A69-ADB7-6CCD5E04055F}" type="datetime10">
              <a:rPr b="0" lang="en-US" sz="1300" spc="-1" strike="noStrike">
                <a:solidFill>
                  <a:srgbClr val="b3aeac"/>
                </a:solidFill>
                <a:latin typeface="Rockwell"/>
              </a:rPr>
              <a:t>14:4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1600200" y="6400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b55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6AA6-2E70-4002-90F3-28CA6D009767}" type="slidenum">
              <a:rPr b="0" lang="en-US" sz="1600" spc="-1" strike="noStrike">
                <a:solidFill>
                  <a:srgbClr val="ffb55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fff49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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743040" indent="-285840">
              <a:buClr>
                <a:srgbClr val="a5644e"/>
              </a:buClr>
              <a:buSzPct val="90000"/>
              <a:buFont typeface="Rockwel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buClr>
                <a:srgbClr val="b58b80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5057640" y="996840"/>
            <a:ext cx="3748320" cy="9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3aeac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91DE-1856-4711-927B-7CC8D2AAB5F9}" type="datetime">
              <a:rPr b="0" lang="en-US" sz="1300" spc="-1" strike="noStrike">
                <a:solidFill>
                  <a:srgbClr val="b3aeac"/>
                </a:solidFill>
                <a:latin typeface="Rockwell"/>
              </a:rPr>
              <a:t>07/29/26</a:t>
            </a:fld>
            <a:r>
              <a:rPr b="0" lang="en-US" sz="1300" spc="-1" strike="noStrike">
                <a:solidFill>
                  <a:srgbClr val="b3aeac"/>
                </a:solidFill>
                <a:latin typeface="Rockwell"/>
              </a:rPr>
              <a:t> </a:t>
            </a:r>
            <a:fld id="{F6FDCBD8-13DF-4EC6-B558-5B6070A19AF7}" type="datetime10">
              <a:rPr b="0" lang="en-US" sz="1300" spc="-1" strike="noStrike">
                <a:solidFill>
                  <a:srgbClr val="b3aeac"/>
                </a:solidFill>
                <a:latin typeface="Rockwell"/>
              </a:rPr>
              <a:t>14:41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0a22e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A344-F544-4508-8AC0-05D6131B4255}" type="slidenum">
              <a:rPr b="0" lang="en-US" sz="1600" spc="-1" strike="noStrike">
                <a:solidFill>
                  <a:srgbClr val="f0a22e"/>
                </a:solidFill>
                <a:latin typeface="Rockwell"/>
              </a:rPr>
              <a:t>&lt;number&gt;</a:t>
            </a:fld>
            <a:r>
              <a:rPr b="0" lang="en-US" sz="1600" spc="-1" strike="noStrike">
                <a:solidFill>
                  <a:srgbClr val="f0a22e"/>
                </a:solidFill>
                <a:latin typeface="Rockwel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20680"/>
            <a:ext cx="8305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600" spc="-1" strike="noStrike">
                <a:solidFill>
                  <a:srgbClr val="fff49c"/>
                </a:solidFill>
                <a:latin typeface="Rockwell"/>
              </a:rPr>
              <a:t>PRESENTATION NAME</a:t>
            </a:r>
            <a:endParaRPr b="0" lang="en-US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23623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Rockwell"/>
              </a:rPr>
              <a:t>Descrip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r">
              <a:buNone/>
              <a:tabLst>
                <a:tab algn="l" pos="0"/>
              </a:tabLst>
            </a:pPr>
            <a:endParaRPr b="0" lang="fr-CA" sz="4600" spc="-1" strike="noStrike">
              <a:solidFill>
                <a:srgbClr val="fff49c"/>
              </a:solidFill>
              <a:latin typeface="Rockwel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65040">
              <a:buClr>
                <a:srgbClr val="f0a22e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19:54:46Z</dcterms:created>
  <dc:creator>Ric</dc:creator>
  <dc:description/>
  <dc:language>en-US</dc:language>
  <cp:lastModifiedBy>Ric</cp:lastModifiedBy>
  <dcterms:modified xsi:type="dcterms:W3CDTF">2006-08-17T19:56:16Z</dcterms:modified>
  <cp:revision>1</cp:revision>
  <dc:subject/>
  <dc:title>PRESENTATION NAME</dc:title>
</cp:coreProperties>
</file>